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82A-9117-4994-88DF-F97B0697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FF4-E206-4070-8AB4-5465934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E8F-08F3-4DD9-980C-8300E2FF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0A8-805D-457D-8F71-28694718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3A6-7B29-4D57-AB29-66605FD6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A81-D1A5-4B13-8CCD-C68541F8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4A3-A983-4F15-8341-854FDA48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4FC-A6E8-42E0-93AF-15A9669E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733-6D24-4F2B-A83E-1F18F563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9F8-5E3C-4587-AB28-4CC645F3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A56-2AD7-4DC8-B4D9-5C4C2E31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B0B-1E32-4ADA-AD0C-7CB418F1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2983-9B73-4F8A-BBA5-576FB0BE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October 6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arm-up:  Convert each fraction to a dec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39880" y="1600200"/>
                <a:ext cx="576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828800" y="3048120"/>
                <a:ext cx="441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828800" y="4724280"/>
                <a:ext cx="530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6634080" y="1785960"/>
            <a:ext cx="2779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8430" y="5904"/>
                </a:moveTo>
                <a:cubicBezTo>
                  <a:pt x="18430" y="5920"/>
                  <a:pt x="18430" y="5937"/>
                  <a:pt x="18430" y="5953"/>
                </a:cubicBezTo>
              </a:path>
              <a:path w="770" h="1043">
                <a:moveTo>
                  <a:pt x="19199" y="4961"/>
                </a:moveTo>
                <a:cubicBezTo>
                  <a:pt x="19170" y="5191"/>
                  <a:pt x="19169" y="5422"/>
                  <a:pt x="19149" y="5655"/>
                </a:cubicBezTo>
                <a:cubicBezTo>
                  <a:pt x="19129" y="5854"/>
                  <a:pt x="19121" y="5886"/>
                  <a:pt x="19124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00240" y="2108160"/>
            <a:ext cx="115920" cy="7956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8334" y="5854"/>
                </a:moveTo>
                <a:cubicBezTo>
                  <a:pt x="8417" y="5854"/>
                  <a:pt x="8499" y="5854"/>
                  <a:pt x="8582" y="5854"/>
                </a:cubicBezTo>
              </a:path>
              <a:path w="324" h="224">
                <a:moveTo>
                  <a:pt x="8384" y="6052"/>
                </a:moveTo>
                <a:cubicBezTo>
                  <a:pt x="8494" y="6073"/>
                  <a:pt x="8554" y="6073"/>
                  <a:pt x="8657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6640" y="1839960"/>
            <a:ext cx="393480" cy="384120"/>
          </a:xfrm>
          <a:custGeom>
            <a:avLst/>
            <a:gdLst/>
            <a:ahLst/>
            <a:rect l="l" t="t" r="r" b="b"/>
            <a:pathLst>
              <a:path w="1093" h="1067">
                <a:moveTo>
                  <a:pt x="6325" y="5631"/>
                </a:moveTo>
                <a:cubicBezTo>
                  <a:pt x="6325" y="5740"/>
                  <a:pt x="6407" y="5811"/>
                  <a:pt x="6449" y="5904"/>
                </a:cubicBezTo>
                <a:cubicBezTo>
                  <a:pt x="6460" y="5928"/>
                  <a:pt x="6467" y="5951"/>
                  <a:pt x="6474" y="5978"/>
                </a:cubicBezTo>
              </a:path>
              <a:path w="1093" h="1067">
                <a:moveTo>
                  <a:pt x="6548" y="5606"/>
                </a:moveTo>
                <a:cubicBezTo>
                  <a:pt x="6506" y="5741"/>
                  <a:pt x="6438" y="5834"/>
                  <a:pt x="6375" y="5953"/>
                </a:cubicBezTo>
                <a:cubicBezTo>
                  <a:pt x="6375" y="5981"/>
                  <a:pt x="6373" y="5992"/>
                  <a:pt x="6350" y="6003"/>
                </a:cubicBezTo>
              </a:path>
              <a:path w="1093" h="1067">
                <a:moveTo>
                  <a:pt x="7317" y="5804"/>
                </a:moveTo>
                <a:cubicBezTo>
                  <a:pt x="7246" y="5804"/>
                  <a:pt x="7085" y="5764"/>
                  <a:pt x="7045" y="5829"/>
                </a:cubicBezTo>
                <a:cubicBezTo>
                  <a:pt x="7023" y="5865"/>
                  <a:pt x="7038" y="5935"/>
                  <a:pt x="7020" y="5978"/>
                </a:cubicBezTo>
                <a:cubicBezTo>
                  <a:pt x="7120" y="5961"/>
                  <a:pt x="7201" y="5885"/>
                  <a:pt x="7293" y="5978"/>
                </a:cubicBezTo>
                <a:cubicBezTo>
                  <a:pt x="7301" y="6003"/>
                  <a:pt x="7309" y="6027"/>
                  <a:pt x="7317" y="6052"/>
                </a:cubicBezTo>
                <a:cubicBezTo>
                  <a:pt x="7250" y="6187"/>
                  <a:pt x="7141" y="6165"/>
                  <a:pt x="6995" y="6152"/>
                </a:cubicBezTo>
                <a:cubicBezTo>
                  <a:pt x="6952" y="6152"/>
                  <a:pt x="6949" y="6135"/>
                  <a:pt x="6995" y="6077"/>
                </a:cubicBezTo>
              </a:path>
              <a:path w="1093" h="1067">
                <a:moveTo>
                  <a:pt x="7069" y="5655"/>
                </a:moveTo>
                <a:cubicBezTo>
                  <a:pt x="7183" y="5655"/>
                  <a:pt x="7281" y="5626"/>
                  <a:pt x="7392" y="5606"/>
                </a:cubicBezTo>
                <a:cubicBezTo>
                  <a:pt x="7400" y="5606"/>
                  <a:pt x="7409" y="5606"/>
                  <a:pt x="7417" y="5606"/>
                </a:cubicBezTo>
              </a:path>
              <a:path w="1093" h="1067">
                <a:moveTo>
                  <a:pt x="7218" y="5110"/>
                </a:moveTo>
                <a:cubicBezTo>
                  <a:pt x="7179" y="5120"/>
                  <a:pt x="7164" y="5135"/>
                  <a:pt x="7119" y="5135"/>
                </a:cubicBezTo>
                <a:cubicBezTo>
                  <a:pt x="7069" y="5135"/>
                  <a:pt x="7047" y="5190"/>
                  <a:pt x="7069" y="5234"/>
                </a:cubicBezTo>
                <a:cubicBezTo>
                  <a:pt x="7082" y="5261"/>
                  <a:pt x="7105" y="5304"/>
                  <a:pt x="7144" y="5283"/>
                </a:cubicBezTo>
                <a:cubicBezTo>
                  <a:pt x="7214" y="5246"/>
                  <a:pt x="7263" y="5262"/>
                  <a:pt x="7317" y="5333"/>
                </a:cubicBezTo>
                <a:cubicBezTo>
                  <a:pt x="7392" y="5432"/>
                  <a:pt x="7265" y="5512"/>
                  <a:pt x="7193" y="5556"/>
                </a:cubicBezTo>
                <a:cubicBezTo>
                  <a:pt x="7130" y="5595"/>
                  <a:pt x="7068" y="5524"/>
                  <a:pt x="7045" y="5482"/>
                </a:cubicBezTo>
                <a:cubicBezTo>
                  <a:pt x="7045" y="5474"/>
                  <a:pt x="7045" y="5465"/>
                  <a:pt x="7045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86080" y="1652760"/>
            <a:ext cx="669960" cy="776160"/>
          </a:xfrm>
          <a:custGeom>
            <a:avLst/>
            <a:gdLst/>
            <a:ahLst/>
            <a:rect l="l" t="t" r="r" b="b"/>
            <a:pathLst>
              <a:path w="1861" h="2159">
                <a:moveTo>
                  <a:pt x="9277" y="6276"/>
                </a:moveTo>
                <a:cubicBezTo>
                  <a:pt x="9278" y="6309"/>
                  <a:pt x="9240" y="6730"/>
                  <a:pt x="9327" y="6672"/>
                </a:cubicBezTo>
              </a:path>
              <a:path w="1861" h="2159">
                <a:moveTo>
                  <a:pt x="9723" y="6152"/>
                </a:moveTo>
                <a:cubicBezTo>
                  <a:pt x="9588" y="6323"/>
                  <a:pt x="9565" y="6455"/>
                  <a:pt x="9575" y="6672"/>
                </a:cubicBezTo>
                <a:cubicBezTo>
                  <a:pt x="9714" y="6727"/>
                  <a:pt x="10017" y="6718"/>
                  <a:pt x="9996" y="6449"/>
                </a:cubicBezTo>
                <a:cubicBezTo>
                  <a:pt x="9982" y="6271"/>
                  <a:pt x="9837" y="6226"/>
                  <a:pt x="9699" y="6226"/>
                </a:cubicBezTo>
              </a:path>
              <a:path w="1861" h="2159">
                <a:moveTo>
                  <a:pt x="10492" y="6251"/>
                </a:moveTo>
                <a:cubicBezTo>
                  <a:pt x="10363" y="6251"/>
                  <a:pt x="10358" y="6402"/>
                  <a:pt x="10344" y="6499"/>
                </a:cubicBezTo>
                <a:cubicBezTo>
                  <a:pt x="10344" y="6591"/>
                  <a:pt x="10342" y="6617"/>
                  <a:pt x="10368" y="6672"/>
                </a:cubicBezTo>
                <a:cubicBezTo>
                  <a:pt x="10523" y="6681"/>
                  <a:pt x="10764" y="6652"/>
                  <a:pt x="10765" y="6424"/>
                </a:cubicBezTo>
                <a:cubicBezTo>
                  <a:pt x="10765" y="6247"/>
                  <a:pt x="10513" y="6280"/>
                  <a:pt x="10418" y="6300"/>
                </a:cubicBezTo>
              </a:path>
              <a:path w="1861" h="2159">
                <a:moveTo>
                  <a:pt x="9128" y="5779"/>
                </a:moveTo>
                <a:cubicBezTo>
                  <a:pt x="9401" y="5779"/>
                  <a:pt x="9650" y="5755"/>
                  <a:pt x="9922" y="5730"/>
                </a:cubicBezTo>
                <a:cubicBezTo>
                  <a:pt x="10252" y="5699"/>
                  <a:pt x="10583" y="5663"/>
                  <a:pt x="10914" y="5655"/>
                </a:cubicBezTo>
                <a:cubicBezTo>
                  <a:pt x="10955" y="5655"/>
                  <a:pt x="10963" y="5655"/>
                  <a:pt x="10988" y="5655"/>
                </a:cubicBezTo>
              </a:path>
              <a:path w="1861" h="2159">
                <a:moveTo>
                  <a:pt x="9699" y="4862"/>
                </a:moveTo>
                <a:cubicBezTo>
                  <a:pt x="9665" y="4884"/>
                  <a:pt x="9601" y="4994"/>
                  <a:pt x="9575" y="5060"/>
                </a:cubicBezTo>
                <a:cubicBezTo>
                  <a:pt x="9575" y="5068"/>
                  <a:pt x="9575" y="5077"/>
                  <a:pt x="9575" y="5085"/>
                </a:cubicBezTo>
                <a:cubicBezTo>
                  <a:pt x="9707" y="5085"/>
                  <a:pt x="9839" y="5085"/>
                  <a:pt x="9971" y="5085"/>
                </a:cubicBezTo>
              </a:path>
              <a:path w="1861" h="2159">
                <a:moveTo>
                  <a:pt x="9947" y="4589"/>
                </a:moveTo>
                <a:cubicBezTo>
                  <a:pt x="9947" y="4852"/>
                  <a:pt x="9925" y="5098"/>
                  <a:pt x="9897" y="5358"/>
                </a:cubicBezTo>
                <a:cubicBezTo>
                  <a:pt x="9887" y="5445"/>
                  <a:pt x="9899" y="5388"/>
                  <a:pt x="9922" y="5358"/>
                </a:cubicBezTo>
              </a:path>
              <a:path w="1861" h="2159">
                <a:moveTo>
                  <a:pt x="10393" y="4663"/>
                </a:moveTo>
                <a:cubicBezTo>
                  <a:pt x="10281" y="4737"/>
                  <a:pt x="10205" y="4949"/>
                  <a:pt x="10170" y="5085"/>
                </a:cubicBezTo>
                <a:cubicBezTo>
                  <a:pt x="10142" y="5193"/>
                  <a:pt x="10115" y="5461"/>
                  <a:pt x="10319" y="5432"/>
                </a:cubicBezTo>
                <a:cubicBezTo>
                  <a:pt x="10444" y="5414"/>
                  <a:pt x="10592" y="5265"/>
                  <a:pt x="10592" y="5135"/>
                </a:cubicBezTo>
                <a:cubicBezTo>
                  <a:pt x="10592" y="5042"/>
                  <a:pt x="10541" y="4942"/>
                  <a:pt x="10468" y="4887"/>
                </a:cubicBezTo>
                <a:cubicBezTo>
                  <a:pt x="10424" y="4854"/>
                  <a:pt x="10356" y="4825"/>
                  <a:pt x="10344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24240" y="2035080"/>
            <a:ext cx="142920" cy="100080"/>
          </a:xfrm>
          <a:custGeom>
            <a:avLst/>
            <a:gdLst/>
            <a:ahLst/>
            <a:rect l="l" t="t" r="r" b="b"/>
            <a:pathLst>
              <a:path w="397" h="274">
                <a:moveTo>
                  <a:pt x="11733" y="5730"/>
                </a:moveTo>
                <a:cubicBezTo>
                  <a:pt x="11842" y="5714"/>
                  <a:pt x="11948" y="5678"/>
                  <a:pt x="12055" y="5655"/>
                </a:cubicBezTo>
                <a:cubicBezTo>
                  <a:pt x="12063" y="5655"/>
                  <a:pt x="12072" y="5655"/>
                  <a:pt x="12080" y="5655"/>
                </a:cubicBezTo>
              </a:path>
              <a:path w="397" h="274">
                <a:moveTo>
                  <a:pt x="11832" y="5928"/>
                </a:moveTo>
                <a:cubicBezTo>
                  <a:pt x="11938" y="5928"/>
                  <a:pt x="12007" y="5905"/>
                  <a:pt x="12105" y="5879"/>
                </a:cubicBezTo>
                <a:cubicBezTo>
                  <a:pt x="12113" y="5879"/>
                  <a:pt x="12121" y="5879"/>
                  <a:pt x="12129" y="58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53000" y="1938240"/>
            <a:ext cx="857160" cy="392040"/>
          </a:xfrm>
          <a:custGeom>
            <a:avLst/>
            <a:gdLst/>
            <a:ahLst/>
            <a:rect l="l" t="t" r="r" b="b"/>
            <a:pathLst>
              <a:path w="2382" h="1092">
                <a:moveTo>
                  <a:pt x="13295" y="5432"/>
                </a:moveTo>
                <a:cubicBezTo>
                  <a:pt x="13197" y="5456"/>
                  <a:pt x="13089" y="5615"/>
                  <a:pt x="13022" y="5779"/>
                </a:cubicBezTo>
                <a:cubicBezTo>
                  <a:pt x="12943" y="5971"/>
                  <a:pt x="12815" y="6366"/>
                  <a:pt x="13097" y="6474"/>
                </a:cubicBezTo>
                <a:cubicBezTo>
                  <a:pt x="13303" y="6553"/>
                  <a:pt x="13566" y="6369"/>
                  <a:pt x="13618" y="6176"/>
                </a:cubicBezTo>
                <a:cubicBezTo>
                  <a:pt x="13670" y="5984"/>
                  <a:pt x="13528" y="5774"/>
                  <a:pt x="13395" y="5655"/>
                </a:cubicBezTo>
                <a:cubicBezTo>
                  <a:pt x="13338" y="5618"/>
                  <a:pt x="13335" y="5601"/>
                  <a:pt x="13295" y="5606"/>
                </a:cubicBezTo>
              </a:path>
              <a:path w="2382" h="1092">
                <a:moveTo>
                  <a:pt x="13891" y="6276"/>
                </a:moveTo>
                <a:cubicBezTo>
                  <a:pt x="13870" y="6213"/>
                  <a:pt x="13810" y="6279"/>
                  <a:pt x="13791" y="6325"/>
                </a:cubicBezTo>
                <a:cubicBezTo>
                  <a:pt x="13791" y="6333"/>
                  <a:pt x="13791" y="6342"/>
                  <a:pt x="13791" y="6350"/>
                </a:cubicBezTo>
                <a:cubicBezTo>
                  <a:pt x="13832" y="6354"/>
                  <a:pt x="14012" y="6350"/>
                  <a:pt x="13940" y="6251"/>
                </a:cubicBezTo>
                <a:cubicBezTo>
                  <a:pt x="13915" y="6251"/>
                  <a:pt x="13907" y="6251"/>
                  <a:pt x="13891" y="6251"/>
                </a:cubicBezTo>
              </a:path>
              <a:path w="2382" h="1092">
                <a:moveTo>
                  <a:pt x="14213" y="5556"/>
                </a:moveTo>
                <a:cubicBezTo>
                  <a:pt x="14221" y="5548"/>
                  <a:pt x="14230" y="5539"/>
                  <a:pt x="14238" y="5531"/>
                </a:cubicBezTo>
                <a:cubicBezTo>
                  <a:pt x="14225" y="5656"/>
                  <a:pt x="14199" y="5780"/>
                  <a:pt x="14188" y="5904"/>
                </a:cubicBezTo>
                <a:cubicBezTo>
                  <a:pt x="14290" y="5946"/>
                  <a:pt x="14379" y="5918"/>
                  <a:pt x="14486" y="5879"/>
                </a:cubicBezTo>
              </a:path>
              <a:path w="2382" h="1092">
                <a:moveTo>
                  <a:pt x="14436" y="5383"/>
                </a:moveTo>
                <a:cubicBezTo>
                  <a:pt x="14463" y="5591"/>
                  <a:pt x="14483" y="5791"/>
                  <a:pt x="14486" y="6003"/>
                </a:cubicBezTo>
                <a:cubicBezTo>
                  <a:pt x="14487" y="6069"/>
                  <a:pt x="14486" y="6135"/>
                  <a:pt x="14486" y="6201"/>
                </a:cubicBezTo>
              </a:path>
              <a:path w="2382" h="1092">
                <a:moveTo>
                  <a:pt x="15106" y="5482"/>
                </a:moveTo>
                <a:cubicBezTo>
                  <a:pt x="14987" y="5437"/>
                  <a:pt x="14960" y="5469"/>
                  <a:pt x="14883" y="5581"/>
                </a:cubicBezTo>
                <a:cubicBezTo>
                  <a:pt x="14774" y="5739"/>
                  <a:pt x="14715" y="5913"/>
                  <a:pt x="14759" y="6102"/>
                </a:cubicBezTo>
                <a:cubicBezTo>
                  <a:pt x="14785" y="6212"/>
                  <a:pt x="14935" y="6254"/>
                  <a:pt x="15032" y="6226"/>
                </a:cubicBezTo>
                <a:cubicBezTo>
                  <a:pt x="15124" y="6199"/>
                  <a:pt x="15283" y="6052"/>
                  <a:pt x="15304" y="5953"/>
                </a:cubicBezTo>
                <a:cubicBezTo>
                  <a:pt x="15341" y="5782"/>
                  <a:pt x="15278" y="5653"/>
                  <a:pt x="15205" y="5507"/>
                </a:cubicBezTo>
                <a:cubicBezTo>
                  <a:pt x="15184" y="5465"/>
                  <a:pt x="15159" y="5434"/>
                  <a:pt x="15156" y="5407"/>
                </a:cubicBezTo>
                <a:cubicBezTo>
                  <a:pt x="15156" y="5399"/>
                  <a:pt x="15156" y="5391"/>
                  <a:pt x="15156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86680" y="1874880"/>
            <a:ext cx="625320" cy="357120"/>
          </a:xfrm>
          <a:custGeom>
            <a:avLst/>
            <a:gdLst/>
            <a:ahLst/>
            <a:rect l="l" t="t" r="r" b="b"/>
            <a:pathLst>
              <a:path w="1738" h="993">
                <a:moveTo>
                  <a:pt x="17785" y="5283"/>
                </a:moveTo>
                <a:cubicBezTo>
                  <a:pt x="17740" y="5152"/>
                  <a:pt x="17615" y="5428"/>
                  <a:pt x="17562" y="5556"/>
                </a:cubicBezTo>
                <a:cubicBezTo>
                  <a:pt x="17444" y="5842"/>
                  <a:pt x="17439" y="5941"/>
                  <a:pt x="17537" y="6201"/>
                </a:cubicBezTo>
                <a:cubicBezTo>
                  <a:pt x="17858" y="6091"/>
                  <a:pt x="18119" y="5988"/>
                  <a:pt x="18058" y="5581"/>
                </a:cubicBezTo>
                <a:cubicBezTo>
                  <a:pt x="18036" y="5436"/>
                  <a:pt x="17771" y="5137"/>
                  <a:pt x="17760" y="5283"/>
                </a:cubicBezTo>
                <a:cubicBezTo>
                  <a:pt x="17768" y="5308"/>
                  <a:pt x="17777" y="5333"/>
                  <a:pt x="17785" y="5358"/>
                </a:cubicBezTo>
              </a:path>
              <a:path w="1738" h="993">
                <a:moveTo>
                  <a:pt x="18827" y="5209"/>
                </a:moveTo>
                <a:cubicBezTo>
                  <a:pt x="18810" y="5307"/>
                  <a:pt x="18789" y="5409"/>
                  <a:pt x="18777" y="5507"/>
                </a:cubicBezTo>
                <a:cubicBezTo>
                  <a:pt x="18912" y="5507"/>
                  <a:pt x="19040" y="5488"/>
                  <a:pt x="19174" y="5482"/>
                </a:cubicBezTo>
                <a:cubicBezTo>
                  <a:pt x="19182" y="5482"/>
                  <a:pt x="19191" y="5482"/>
                  <a:pt x="19199" y="5482"/>
                </a:cubicBezTo>
              </a:path>
              <a:path w="1738" h="993">
                <a:moveTo>
                  <a:pt x="18405" y="5953"/>
                </a:moveTo>
                <a:cubicBezTo>
                  <a:pt x="18397" y="5937"/>
                  <a:pt x="18388" y="5920"/>
                  <a:pt x="18380" y="5904"/>
                </a:cubicBezTo>
                <a:cubicBezTo>
                  <a:pt x="18371" y="5958"/>
                  <a:pt x="18297" y="6117"/>
                  <a:pt x="18430" y="6028"/>
                </a:cubicBezTo>
                <a:cubicBezTo>
                  <a:pt x="18486" y="5991"/>
                  <a:pt x="18513" y="6011"/>
                  <a:pt x="18479" y="5953"/>
                </a:cubicBezTo>
                <a:cubicBezTo>
                  <a:pt x="18479" y="5937"/>
                  <a:pt x="18479" y="5920"/>
                  <a:pt x="18479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03720" y="3803760"/>
            <a:ext cx="1571400" cy="2903400"/>
          </a:xfrm>
          <a:custGeom>
            <a:avLst/>
            <a:gdLst/>
            <a:ahLst/>
            <a:rect l="l" t="t" r="r" b="b"/>
            <a:pathLst>
              <a:path w="4366" h="8062">
                <a:moveTo>
                  <a:pt x="9178" y="10616"/>
                </a:moveTo>
                <a:cubicBezTo>
                  <a:pt x="9267" y="10581"/>
                  <a:pt x="9330" y="10573"/>
                  <a:pt x="9426" y="10567"/>
                </a:cubicBezTo>
              </a:path>
              <a:path w="4366" h="8062">
                <a:moveTo>
                  <a:pt x="10096" y="11956"/>
                </a:moveTo>
                <a:cubicBezTo>
                  <a:pt x="10181" y="11886"/>
                  <a:pt x="10261" y="11888"/>
                  <a:pt x="10368" y="11881"/>
                </a:cubicBezTo>
              </a:path>
              <a:path w="4366" h="8062">
                <a:moveTo>
                  <a:pt x="11584" y="12229"/>
                </a:moveTo>
                <a:lnTo>
                  <a:pt x="11584" y="12229"/>
                </a:lnTo>
              </a:path>
              <a:path w="4366" h="8062">
                <a:moveTo>
                  <a:pt x="11584" y="12229"/>
                </a:moveTo>
                <a:lnTo>
                  <a:pt x="11584" y="12229"/>
                </a:lnTo>
              </a:path>
              <a:path w="4366" h="8062">
                <a:moveTo>
                  <a:pt x="13072" y="13519"/>
                </a:moveTo>
                <a:cubicBezTo>
                  <a:pt x="13117" y="13638"/>
                  <a:pt x="13150" y="13735"/>
                  <a:pt x="13221" y="13841"/>
                </a:cubicBezTo>
              </a:path>
              <a:path w="4366" h="8062">
                <a:moveTo>
                  <a:pt x="12601" y="14114"/>
                </a:moveTo>
                <a:cubicBezTo>
                  <a:pt x="12678" y="14088"/>
                  <a:pt x="13507" y="13761"/>
                  <a:pt x="13543" y="13866"/>
                </a:cubicBezTo>
                <a:cubicBezTo>
                  <a:pt x="13535" y="13899"/>
                  <a:pt x="13527" y="13932"/>
                  <a:pt x="13519" y="13965"/>
                </a:cubicBezTo>
              </a:path>
              <a:path w="4366" h="8062">
                <a:moveTo>
                  <a:pt x="9525" y="17264"/>
                </a:moveTo>
                <a:cubicBezTo>
                  <a:pt x="9568" y="17239"/>
                  <a:pt x="9675" y="17144"/>
                  <a:pt x="9699" y="17214"/>
                </a:cubicBezTo>
              </a:path>
              <a:path w="4366" h="8062">
                <a:moveTo>
                  <a:pt x="10319" y="18628"/>
                </a:moveTo>
                <a:cubicBezTo>
                  <a:pt x="10438" y="18569"/>
                  <a:pt x="10506" y="18561"/>
                  <a:pt x="10641" y="18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30680" y="1724040"/>
            <a:ext cx="2733480" cy="5054760"/>
          </a:xfrm>
          <a:custGeom>
            <a:avLst/>
            <a:gdLst/>
            <a:ahLst/>
            <a:rect l="l" t="t" r="r" b="b"/>
            <a:pathLst>
              <a:path w="7591" h="14041">
                <a:moveTo>
                  <a:pt x="12898" y="6921"/>
                </a:moveTo>
                <a:cubicBezTo>
                  <a:pt x="13320" y="6795"/>
                  <a:pt x="13775" y="6756"/>
                  <a:pt x="14213" y="6697"/>
                </a:cubicBezTo>
                <a:cubicBezTo>
                  <a:pt x="14538" y="6653"/>
                  <a:pt x="14856" y="6561"/>
                  <a:pt x="15180" y="6524"/>
                </a:cubicBezTo>
                <a:cubicBezTo>
                  <a:pt x="15275" y="6513"/>
                  <a:pt x="15373" y="6528"/>
                  <a:pt x="15453" y="6548"/>
                </a:cubicBezTo>
                <a:cubicBezTo>
                  <a:pt x="15447" y="6359"/>
                  <a:pt x="15401" y="6164"/>
                  <a:pt x="15404" y="5978"/>
                </a:cubicBezTo>
                <a:cubicBezTo>
                  <a:pt x="15407" y="5763"/>
                  <a:pt x="15448" y="5548"/>
                  <a:pt x="15453" y="5333"/>
                </a:cubicBezTo>
                <a:cubicBezTo>
                  <a:pt x="15456" y="5205"/>
                  <a:pt x="15412" y="5059"/>
                  <a:pt x="15429" y="4936"/>
                </a:cubicBezTo>
                <a:cubicBezTo>
                  <a:pt x="15436" y="4882"/>
                  <a:pt x="15449" y="4841"/>
                  <a:pt x="15453" y="4787"/>
                </a:cubicBezTo>
                <a:cubicBezTo>
                  <a:pt x="15293" y="4834"/>
                  <a:pt x="15124" y="4882"/>
                  <a:pt x="14957" y="4911"/>
                </a:cubicBezTo>
                <a:cubicBezTo>
                  <a:pt x="14704" y="4954"/>
                  <a:pt x="14444" y="4936"/>
                  <a:pt x="14188" y="4936"/>
                </a:cubicBezTo>
                <a:cubicBezTo>
                  <a:pt x="13957" y="4936"/>
                  <a:pt x="13723" y="4940"/>
                  <a:pt x="13494" y="4961"/>
                </a:cubicBezTo>
                <a:cubicBezTo>
                  <a:pt x="13327" y="4976"/>
                  <a:pt x="13163" y="5020"/>
                  <a:pt x="12998" y="5035"/>
                </a:cubicBezTo>
                <a:cubicBezTo>
                  <a:pt x="12915" y="5043"/>
                  <a:pt x="12834" y="5015"/>
                  <a:pt x="12750" y="5011"/>
                </a:cubicBezTo>
                <a:cubicBezTo>
                  <a:pt x="12742" y="5011"/>
                  <a:pt x="12733" y="5011"/>
                  <a:pt x="12725" y="5011"/>
                </a:cubicBezTo>
                <a:cubicBezTo>
                  <a:pt x="12758" y="5214"/>
                  <a:pt x="12761" y="5399"/>
                  <a:pt x="12774" y="5606"/>
                </a:cubicBezTo>
                <a:cubicBezTo>
                  <a:pt x="12792" y="5896"/>
                  <a:pt x="12834" y="6185"/>
                  <a:pt x="12849" y="6474"/>
                </a:cubicBezTo>
                <a:cubicBezTo>
                  <a:pt x="12854" y="6574"/>
                  <a:pt x="12868" y="6710"/>
                  <a:pt x="12874" y="6796"/>
                </a:cubicBezTo>
                <a:cubicBezTo>
                  <a:pt x="12880" y="6882"/>
                  <a:pt x="12874" y="6912"/>
                  <a:pt x="12898" y="6995"/>
                </a:cubicBezTo>
              </a:path>
              <a:path w="7591" h="14041">
                <a:moveTo>
                  <a:pt x="9748" y="9500"/>
                </a:moveTo>
                <a:cubicBezTo>
                  <a:pt x="9748" y="9417"/>
                  <a:pt x="9745" y="9311"/>
                  <a:pt x="9674" y="9252"/>
                </a:cubicBezTo>
                <a:cubicBezTo>
                  <a:pt x="9649" y="9244"/>
                  <a:pt x="9624" y="9235"/>
                  <a:pt x="9599" y="9227"/>
                </a:cubicBezTo>
                <a:cubicBezTo>
                  <a:pt x="9462" y="9342"/>
                  <a:pt x="9355" y="9479"/>
                  <a:pt x="9426" y="9674"/>
                </a:cubicBezTo>
                <a:cubicBezTo>
                  <a:pt x="9442" y="9690"/>
                  <a:pt x="9459" y="9707"/>
                  <a:pt x="9475" y="9723"/>
                </a:cubicBezTo>
                <a:cubicBezTo>
                  <a:pt x="9592" y="9627"/>
                  <a:pt x="9665" y="9546"/>
                  <a:pt x="9699" y="9401"/>
                </a:cubicBezTo>
                <a:cubicBezTo>
                  <a:pt x="9699" y="9682"/>
                  <a:pt x="9699" y="10476"/>
                  <a:pt x="9699" y="10195"/>
                </a:cubicBezTo>
              </a:path>
              <a:path w="7591" h="14041">
                <a:moveTo>
                  <a:pt x="9128" y="10492"/>
                </a:moveTo>
                <a:cubicBezTo>
                  <a:pt x="9097" y="10288"/>
                  <a:pt x="9055" y="10078"/>
                  <a:pt x="9029" y="9872"/>
                </a:cubicBezTo>
                <a:cubicBezTo>
                  <a:pt x="9023" y="9823"/>
                  <a:pt x="8887" y="9161"/>
                  <a:pt x="8930" y="9128"/>
                </a:cubicBezTo>
                <a:cubicBezTo>
                  <a:pt x="9078" y="9016"/>
                  <a:pt x="9530" y="9002"/>
                  <a:pt x="9699" y="8979"/>
                </a:cubicBezTo>
                <a:cubicBezTo>
                  <a:pt x="10194" y="8913"/>
                  <a:pt x="10692" y="8894"/>
                  <a:pt x="11187" y="8830"/>
                </a:cubicBezTo>
                <a:cubicBezTo>
                  <a:pt x="11353" y="8809"/>
                  <a:pt x="11516" y="8786"/>
                  <a:pt x="11683" y="8781"/>
                </a:cubicBezTo>
                <a:cubicBezTo>
                  <a:pt x="11706" y="8780"/>
                  <a:pt x="11807" y="8762"/>
                  <a:pt x="11757" y="8781"/>
                </a:cubicBezTo>
                <a:cubicBezTo>
                  <a:pt x="11724" y="8789"/>
                  <a:pt x="11691" y="8798"/>
                  <a:pt x="11658" y="8806"/>
                </a:cubicBezTo>
              </a:path>
              <a:path w="7591" h="14041">
                <a:moveTo>
                  <a:pt x="8210" y="9475"/>
                </a:moveTo>
                <a:cubicBezTo>
                  <a:pt x="8126" y="9583"/>
                  <a:pt x="8161" y="9821"/>
                  <a:pt x="8161" y="9971"/>
                </a:cubicBezTo>
                <a:cubicBezTo>
                  <a:pt x="8161" y="10007"/>
                  <a:pt x="8121" y="10261"/>
                  <a:pt x="8186" y="10220"/>
                </a:cubicBezTo>
              </a:path>
              <a:path w="7591" h="14041">
                <a:moveTo>
                  <a:pt x="8558" y="9550"/>
                </a:moveTo>
                <a:cubicBezTo>
                  <a:pt x="8558" y="9517"/>
                  <a:pt x="8558" y="9484"/>
                  <a:pt x="8558" y="9451"/>
                </a:cubicBezTo>
                <a:cubicBezTo>
                  <a:pt x="8558" y="9352"/>
                  <a:pt x="8558" y="9600"/>
                  <a:pt x="8558" y="9699"/>
                </a:cubicBezTo>
                <a:cubicBezTo>
                  <a:pt x="8558" y="9848"/>
                  <a:pt x="8558" y="9996"/>
                  <a:pt x="8558" y="10145"/>
                </a:cubicBezTo>
              </a:path>
              <a:path w="7591" h="14041">
                <a:moveTo>
                  <a:pt x="9451" y="8285"/>
                </a:moveTo>
                <a:cubicBezTo>
                  <a:pt x="9419" y="8243"/>
                  <a:pt x="9416" y="8222"/>
                  <a:pt x="9351" y="8210"/>
                </a:cubicBezTo>
                <a:cubicBezTo>
                  <a:pt x="9275" y="8196"/>
                  <a:pt x="9247" y="8286"/>
                  <a:pt x="9203" y="8334"/>
                </a:cubicBezTo>
                <a:cubicBezTo>
                  <a:pt x="9162" y="8378"/>
                  <a:pt x="9156" y="8494"/>
                  <a:pt x="9153" y="8558"/>
                </a:cubicBezTo>
                <a:cubicBezTo>
                  <a:pt x="9151" y="8613"/>
                  <a:pt x="9145" y="8710"/>
                  <a:pt x="9178" y="8756"/>
                </a:cubicBezTo>
                <a:cubicBezTo>
                  <a:pt x="9224" y="8820"/>
                  <a:pt x="9273" y="8846"/>
                  <a:pt x="9351" y="8830"/>
                </a:cubicBezTo>
                <a:cubicBezTo>
                  <a:pt x="9408" y="8818"/>
                  <a:pt x="9501" y="8811"/>
                  <a:pt x="9550" y="8781"/>
                </a:cubicBezTo>
                <a:cubicBezTo>
                  <a:pt x="9605" y="8747"/>
                  <a:pt x="9621" y="8691"/>
                  <a:pt x="9624" y="8632"/>
                </a:cubicBezTo>
                <a:cubicBezTo>
                  <a:pt x="9628" y="8555"/>
                  <a:pt x="9618" y="8477"/>
                  <a:pt x="9599" y="8434"/>
                </a:cubicBezTo>
                <a:cubicBezTo>
                  <a:pt x="9582" y="8395"/>
                  <a:pt x="9566" y="8383"/>
                  <a:pt x="9550" y="8359"/>
                </a:cubicBezTo>
                <a:cubicBezTo>
                  <a:pt x="9534" y="8334"/>
                  <a:pt x="9537" y="8314"/>
                  <a:pt x="9500" y="8310"/>
                </a:cubicBezTo>
                <a:cubicBezTo>
                  <a:pt x="9459" y="8305"/>
                  <a:pt x="9482" y="8285"/>
                  <a:pt x="9426" y="8285"/>
                </a:cubicBezTo>
                <a:cubicBezTo>
                  <a:pt x="9418" y="8285"/>
                  <a:pt x="9409" y="8285"/>
                  <a:pt x="9401" y="8285"/>
                </a:cubicBezTo>
              </a:path>
              <a:path w="7591" h="14041">
                <a:moveTo>
                  <a:pt x="10071" y="9922"/>
                </a:moveTo>
                <a:cubicBezTo>
                  <a:pt x="10043" y="9959"/>
                  <a:pt x="10017" y="9981"/>
                  <a:pt x="10046" y="9996"/>
                </a:cubicBezTo>
                <a:cubicBezTo>
                  <a:pt x="10083" y="9935"/>
                  <a:pt x="10069" y="9894"/>
                  <a:pt x="10021" y="9947"/>
                </a:cubicBezTo>
                <a:cubicBezTo>
                  <a:pt x="9956" y="10019"/>
                  <a:pt x="10044" y="9901"/>
                  <a:pt x="10046" y="9897"/>
                </a:cubicBezTo>
              </a:path>
              <a:path w="7591" h="14041">
                <a:moveTo>
                  <a:pt x="9897" y="8682"/>
                </a:moveTo>
                <a:cubicBezTo>
                  <a:pt x="9897" y="8674"/>
                  <a:pt x="9897" y="8665"/>
                  <a:pt x="9897" y="8657"/>
                </a:cubicBezTo>
                <a:cubicBezTo>
                  <a:pt x="9789" y="8710"/>
                  <a:pt x="9904" y="8720"/>
                  <a:pt x="9897" y="8706"/>
                </a:cubicBezTo>
                <a:cubicBezTo>
                  <a:pt x="9889" y="8706"/>
                  <a:pt x="9880" y="8706"/>
                  <a:pt x="9872" y="8706"/>
                </a:cubicBezTo>
              </a:path>
              <a:path w="7591" h="14041">
                <a:moveTo>
                  <a:pt x="10468" y="9351"/>
                </a:moveTo>
                <a:cubicBezTo>
                  <a:pt x="10468" y="9318"/>
                  <a:pt x="10468" y="9247"/>
                  <a:pt x="10443" y="9227"/>
                </a:cubicBezTo>
                <a:cubicBezTo>
                  <a:pt x="10400" y="9192"/>
                  <a:pt x="10356" y="9202"/>
                  <a:pt x="10319" y="9227"/>
                </a:cubicBezTo>
                <a:cubicBezTo>
                  <a:pt x="10255" y="9270"/>
                  <a:pt x="10234" y="9312"/>
                  <a:pt x="10220" y="9376"/>
                </a:cubicBezTo>
                <a:cubicBezTo>
                  <a:pt x="10202" y="9458"/>
                  <a:pt x="10183" y="9545"/>
                  <a:pt x="10170" y="9624"/>
                </a:cubicBezTo>
                <a:cubicBezTo>
                  <a:pt x="10157" y="9703"/>
                  <a:pt x="10178" y="9776"/>
                  <a:pt x="10195" y="9847"/>
                </a:cubicBezTo>
                <a:cubicBezTo>
                  <a:pt x="10206" y="9896"/>
                  <a:pt x="10210" y="9932"/>
                  <a:pt x="10244" y="9947"/>
                </a:cubicBezTo>
                <a:cubicBezTo>
                  <a:pt x="10285" y="9966"/>
                  <a:pt x="10372" y="9993"/>
                  <a:pt x="10418" y="9971"/>
                </a:cubicBezTo>
                <a:cubicBezTo>
                  <a:pt x="10457" y="9952"/>
                  <a:pt x="10510" y="9919"/>
                  <a:pt x="10542" y="9897"/>
                </a:cubicBezTo>
                <a:cubicBezTo>
                  <a:pt x="10593" y="9861"/>
                  <a:pt x="10614" y="9802"/>
                  <a:pt x="10641" y="9748"/>
                </a:cubicBezTo>
                <a:cubicBezTo>
                  <a:pt x="10669" y="9692"/>
                  <a:pt x="10686" y="9638"/>
                  <a:pt x="10691" y="9575"/>
                </a:cubicBezTo>
                <a:cubicBezTo>
                  <a:pt x="10697" y="9496"/>
                  <a:pt x="10684" y="9418"/>
                  <a:pt x="10666" y="9376"/>
                </a:cubicBezTo>
                <a:cubicBezTo>
                  <a:pt x="10654" y="9347"/>
                  <a:pt x="10665" y="9314"/>
                  <a:pt x="10641" y="9302"/>
                </a:cubicBezTo>
                <a:cubicBezTo>
                  <a:pt x="10611" y="9287"/>
                  <a:pt x="10548" y="9262"/>
                  <a:pt x="10517" y="9252"/>
                </a:cubicBezTo>
                <a:cubicBezTo>
                  <a:pt x="10496" y="9245"/>
                  <a:pt x="10404" y="9237"/>
                  <a:pt x="10393" y="9227"/>
                </a:cubicBezTo>
                <a:cubicBezTo>
                  <a:pt x="10393" y="9203"/>
                  <a:pt x="10393" y="9195"/>
                  <a:pt x="10368" y="9203"/>
                </a:cubicBezTo>
              </a:path>
              <a:path w="7591" h="14041">
                <a:moveTo>
                  <a:pt x="9947" y="8756"/>
                </a:moveTo>
                <a:cubicBezTo>
                  <a:pt x="9925" y="8727"/>
                  <a:pt x="9914" y="8650"/>
                  <a:pt x="9897" y="8682"/>
                </a:cubicBezTo>
                <a:cubicBezTo>
                  <a:pt x="9878" y="8719"/>
                  <a:pt x="9871" y="8718"/>
                  <a:pt x="9897" y="8731"/>
                </a:cubicBezTo>
                <a:cubicBezTo>
                  <a:pt x="9888" y="8680"/>
                  <a:pt x="9818" y="8646"/>
                  <a:pt x="9823" y="8731"/>
                </a:cubicBezTo>
                <a:cubicBezTo>
                  <a:pt x="9843" y="8772"/>
                  <a:pt x="9851" y="8799"/>
                  <a:pt x="9847" y="8756"/>
                </a:cubicBezTo>
              </a:path>
              <a:path w="7591" h="14041">
                <a:moveTo>
                  <a:pt x="10418" y="8210"/>
                </a:moveTo>
                <a:cubicBezTo>
                  <a:pt x="10418" y="8173"/>
                  <a:pt x="10434" y="8138"/>
                  <a:pt x="10393" y="8136"/>
                </a:cubicBezTo>
                <a:cubicBezTo>
                  <a:pt x="10288" y="8130"/>
                  <a:pt x="10209" y="8160"/>
                  <a:pt x="10195" y="8260"/>
                </a:cubicBezTo>
                <a:cubicBezTo>
                  <a:pt x="10297" y="8342"/>
                  <a:pt x="10472" y="8369"/>
                  <a:pt x="10542" y="8483"/>
                </a:cubicBezTo>
                <a:cubicBezTo>
                  <a:pt x="10626" y="8620"/>
                  <a:pt x="10491" y="8776"/>
                  <a:pt x="10368" y="8632"/>
                </a:cubicBezTo>
                <a:cubicBezTo>
                  <a:pt x="10270" y="8517"/>
                  <a:pt x="10372" y="8353"/>
                  <a:pt x="10418" y="8235"/>
                </a:cubicBezTo>
                <a:cubicBezTo>
                  <a:pt x="10439" y="8181"/>
                  <a:pt x="10465" y="8177"/>
                  <a:pt x="10418" y="8161"/>
                </a:cubicBezTo>
              </a:path>
              <a:path w="7591" h="14041">
                <a:moveTo>
                  <a:pt x="9947" y="10368"/>
                </a:moveTo>
                <a:cubicBezTo>
                  <a:pt x="9947" y="10286"/>
                  <a:pt x="9908" y="10257"/>
                  <a:pt x="9798" y="10294"/>
                </a:cubicBezTo>
                <a:cubicBezTo>
                  <a:pt x="9690" y="10359"/>
                  <a:pt x="9658" y="10368"/>
                  <a:pt x="9624" y="10443"/>
                </a:cubicBezTo>
                <a:cubicBezTo>
                  <a:pt x="9670" y="10577"/>
                  <a:pt x="9867" y="10401"/>
                  <a:pt x="9996" y="10517"/>
                </a:cubicBezTo>
                <a:cubicBezTo>
                  <a:pt x="10122" y="10631"/>
                  <a:pt x="10016" y="10739"/>
                  <a:pt x="9947" y="10815"/>
                </a:cubicBezTo>
                <a:cubicBezTo>
                  <a:pt x="9831" y="10661"/>
                  <a:pt x="9873" y="10525"/>
                  <a:pt x="10021" y="10368"/>
                </a:cubicBezTo>
                <a:cubicBezTo>
                  <a:pt x="10029" y="10368"/>
                  <a:pt x="10038" y="10368"/>
                  <a:pt x="10046" y="10368"/>
                </a:cubicBezTo>
              </a:path>
              <a:path w="7591" h="14041">
                <a:moveTo>
                  <a:pt x="10641" y="10269"/>
                </a:moveTo>
                <a:cubicBezTo>
                  <a:pt x="10537" y="10248"/>
                  <a:pt x="10528" y="10226"/>
                  <a:pt x="10418" y="10294"/>
                </a:cubicBezTo>
                <a:cubicBezTo>
                  <a:pt x="10337" y="10354"/>
                  <a:pt x="10324" y="10369"/>
                  <a:pt x="10269" y="10393"/>
                </a:cubicBezTo>
                <a:cubicBezTo>
                  <a:pt x="10323" y="10447"/>
                  <a:pt x="10521" y="10461"/>
                  <a:pt x="10592" y="10567"/>
                </a:cubicBezTo>
                <a:cubicBezTo>
                  <a:pt x="10592" y="10592"/>
                  <a:pt x="10592" y="10616"/>
                  <a:pt x="10592" y="10641"/>
                </a:cubicBezTo>
                <a:cubicBezTo>
                  <a:pt x="10448" y="10663"/>
                  <a:pt x="10350" y="10648"/>
                  <a:pt x="10418" y="10468"/>
                </a:cubicBezTo>
                <a:cubicBezTo>
                  <a:pt x="10444" y="10399"/>
                  <a:pt x="10527" y="10273"/>
                  <a:pt x="10517" y="10244"/>
                </a:cubicBezTo>
              </a:path>
              <a:path w="7591" h="14041">
                <a:moveTo>
                  <a:pt x="9203" y="11088"/>
                </a:moveTo>
                <a:cubicBezTo>
                  <a:pt x="9711" y="10950"/>
                  <a:pt x="10223" y="10842"/>
                  <a:pt x="10740" y="10740"/>
                </a:cubicBezTo>
                <a:cubicBezTo>
                  <a:pt x="10912" y="10706"/>
                  <a:pt x="10997" y="10674"/>
                  <a:pt x="11137" y="10716"/>
                </a:cubicBezTo>
              </a:path>
              <a:path w="7591" h="14041">
                <a:moveTo>
                  <a:pt x="10542" y="11038"/>
                </a:moveTo>
                <a:cubicBezTo>
                  <a:pt x="10560" y="10964"/>
                  <a:pt x="10623" y="10954"/>
                  <a:pt x="10691" y="10939"/>
                </a:cubicBezTo>
                <a:cubicBezTo>
                  <a:pt x="10761" y="11115"/>
                  <a:pt x="10685" y="11245"/>
                  <a:pt x="10592" y="11410"/>
                </a:cubicBezTo>
                <a:cubicBezTo>
                  <a:pt x="10562" y="11464"/>
                  <a:pt x="10463" y="11622"/>
                  <a:pt x="10418" y="11658"/>
                </a:cubicBezTo>
                <a:cubicBezTo>
                  <a:pt x="10535" y="11641"/>
                  <a:pt x="10640" y="11545"/>
                  <a:pt x="10765" y="11509"/>
                </a:cubicBezTo>
                <a:cubicBezTo>
                  <a:pt x="10830" y="11490"/>
                  <a:pt x="10942" y="11467"/>
                  <a:pt x="10964" y="11534"/>
                </a:cubicBezTo>
              </a:path>
              <a:path w="7591" h="14041">
                <a:moveTo>
                  <a:pt x="11088" y="9128"/>
                </a:moveTo>
                <a:cubicBezTo>
                  <a:pt x="10973" y="9085"/>
                  <a:pt x="10927" y="9135"/>
                  <a:pt x="10864" y="9252"/>
                </a:cubicBezTo>
                <a:cubicBezTo>
                  <a:pt x="10817" y="9340"/>
                  <a:pt x="10757" y="9657"/>
                  <a:pt x="10889" y="9723"/>
                </a:cubicBezTo>
                <a:cubicBezTo>
                  <a:pt x="11020" y="9788"/>
                  <a:pt x="11208" y="9663"/>
                  <a:pt x="11212" y="9525"/>
                </a:cubicBezTo>
                <a:cubicBezTo>
                  <a:pt x="11213" y="9501"/>
                  <a:pt x="11164" y="9276"/>
                  <a:pt x="11112" y="9277"/>
                </a:cubicBezTo>
                <a:cubicBezTo>
                  <a:pt x="11112" y="9318"/>
                  <a:pt x="11112" y="9343"/>
                  <a:pt x="11112" y="9376"/>
                </a:cubicBezTo>
              </a:path>
              <a:path w="7591" h="14041">
                <a:moveTo>
                  <a:pt x="11063" y="10096"/>
                </a:moveTo>
                <a:cubicBezTo>
                  <a:pt x="11063" y="10044"/>
                  <a:pt x="11002" y="9984"/>
                  <a:pt x="11038" y="9947"/>
                </a:cubicBezTo>
                <a:cubicBezTo>
                  <a:pt x="11046" y="9955"/>
                  <a:pt x="11055" y="9963"/>
                  <a:pt x="11063" y="9971"/>
                </a:cubicBezTo>
                <a:cubicBezTo>
                  <a:pt x="11063" y="10186"/>
                  <a:pt x="11098" y="10380"/>
                  <a:pt x="11112" y="10592"/>
                </a:cubicBezTo>
                <a:cubicBezTo>
                  <a:pt x="11112" y="10600"/>
                  <a:pt x="11112" y="10608"/>
                  <a:pt x="11112" y="10616"/>
                </a:cubicBezTo>
              </a:path>
              <a:path w="7591" h="14041">
                <a:moveTo>
                  <a:pt x="10914" y="10368"/>
                </a:moveTo>
                <a:cubicBezTo>
                  <a:pt x="10968" y="10463"/>
                  <a:pt x="11025" y="10588"/>
                  <a:pt x="11112" y="10641"/>
                </a:cubicBezTo>
                <a:cubicBezTo>
                  <a:pt x="11194" y="10569"/>
                  <a:pt x="11251" y="10467"/>
                  <a:pt x="11311" y="10368"/>
                </a:cubicBezTo>
              </a:path>
              <a:path w="7591" h="14041">
                <a:moveTo>
                  <a:pt x="11187" y="10889"/>
                </a:moveTo>
                <a:cubicBezTo>
                  <a:pt x="11066" y="10913"/>
                  <a:pt x="11068" y="11004"/>
                  <a:pt x="11063" y="11112"/>
                </a:cubicBezTo>
                <a:cubicBezTo>
                  <a:pt x="11058" y="11213"/>
                  <a:pt x="11030" y="11417"/>
                  <a:pt x="11187" y="11435"/>
                </a:cubicBezTo>
                <a:cubicBezTo>
                  <a:pt x="11330" y="11451"/>
                  <a:pt x="11419" y="11265"/>
                  <a:pt x="11435" y="11162"/>
                </a:cubicBezTo>
                <a:cubicBezTo>
                  <a:pt x="11457" y="11020"/>
                  <a:pt x="11382" y="11024"/>
                  <a:pt x="11286" y="10964"/>
                </a:cubicBezTo>
                <a:cubicBezTo>
                  <a:pt x="11264" y="10942"/>
                  <a:pt x="11259" y="10933"/>
                  <a:pt x="11237" y="10939"/>
                </a:cubicBezTo>
              </a:path>
              <a:path w="7591" h="14041">
                <a:moveTo>
                  <a:pt x="10840" y="8186"/>
                </a:moveTo>
                <a:cubicBezTo>
                  <a:pt x="10840" y="8161"/>
                  <a:pt x="10840" y="8153"/>
                  <a:pt x="10840" y="8136"/>
                </a:cubicBezTo>
                <a:cubicBezTo>
                  <a:pt x="10864" y="8260"/>
                  <a:pt x="10937" y="8383"/>
                  <a:pt x="10964" y="8508"/>
                </a:cubicBezTo>
                <a:cubicBezTo>
                  <a:pt x="10964" y="8565"/>
                  <a:pt x="10964" y="8607"/>
                  <a:pt x="10964" y="8558"/>
                </a:cubicBezTo>
              </a:path>
              <a:path w="7591" h="14041">
                <a:moveTo>
                  <a:pt x="10790" y="11683"/>
                </a:moveTo>
                <a:cubicBezTo>
                  <a:pt x="10790" y="11803"/>
                  <a:pt x="10777" y="11912"/>
                  <a:pt x="10765" y="12030"/>
                </a:cubicBezTo>
                <a:cubicBezTo>
                  <a:pt x="10765" y="12072"/>
                  <a:pt x="10757" y="12088"/>
                  <a:pt x="10790" y="12080"/>
                </a:cubicBezTo>
              </a:path>
              <a:path w="7591" h="14041">
                <a:moveTo>
                  <a:pt x="11261" y="11633"/>
                </a:moveTo>
                <a:cubicBezTo>
                  <a:pt x="11261" y="11749"/>
                  <a:pt x="11261" y="11865"/>
                  <a:pt x="11261" y="11981"/>
                </a:cubicBezTo>
              </a:path>
              <a:path w="7591" h="14041">
                <a:moveTo>
                  <a:pt x="10145" y="12179"/>
                </a:moveTo>
                <a:cubicBezTo>
                  <a:pt x="10472" y="12101"/>
                  <a:pt x="10803" y="12042"/>
                  <a:pt x="11137" y="12005"/>
                </a:cubicBezTo>
                <a:cubicBezTo>
                  <a:pt x="11349" y="11981"/>
                  <a:pt x="11526" y="11995"/>
                  <a:pt x="11733" y="12005"/>
                </a:cubicBezTo>
              </a:path>
              <a:path w="7591" h="14041">
                <a:moveTo>
                  <a:pt x="11559" y="12229"/>
                </a:moveTo>
                <a:cubicBezTo>
                  <a:pt x="11517" y="12203"/>
                  <a:pt x="11441" y="12169"/>
                  <a:pt x="11385" y="12179"/>
                </a:cubicBezTo>
                <a:cubicBezTo>
                  <a:pt x="11281" y="12197"/>
                  <a:pt x="11191" y="12244"/>
                  <a:pt x="11162" y="12353"/>
                </a:cubicBezTo>
                <a:cubicBezTo>
                  <a:pt x="11162" y="12402"/>
                  <a:pt x="11162" y="12419"/>
                  <a:pt x="11162" y="12452"/>
                </a:cubicBezTo>
                <a:cubicBezTo>
                  <a:pt x="11302" y="12487"/>
                  <a:pt x="11360" y="12472"/>
                  <a:pt x="11460" y="12353"/>
                </a:cubicBezTo>
                <a:cubicBezTo>
                  <a:pt x="11504" y="12300"/>
                  <a:pt x="11509" y="12262"/>
                  <a:pt x="11534" y="12204"/>
                </a:cubicBezTo>
                <a:cubicBezTo>
                  <a:pt x="11534" y="12335"/>
                  <a:pt x="11539" y="12498"/>
                  <a:pt x="11559" y="12626"/>
                </a:cubicBezTo>
                <a:cubicBezTo>
                  <a:pt x="11579" y="12666"/>
                  <a:pt x="11588" y="12672"/>
                  <a:pt x="11584" y="12700"/>
                </a:cubicBezTo>
              </a:path>
              <a:path w="7591" h="14041">
                <a:moveTo>
                  <a:pt x="11584" y="9128"/>
                </a:moveTo>
                <a:cubicBezTo>
                  <a:pt x="11609" y="9128"/>
                  <a:pt x="11617" y="9128"/>
                  <a:pt x="11609" y="9103"/>
                </a:cubicBezTo>
                <a:cubicBezTo>
                  <a:pt x="11541" y="9054"/>
                  <a:pt x="11502" y="9075"/>
                  <a:pt x="11460" y="9178"/>
                </a:cubicBezTo>
                <a:cubicBezTo>
                  <a:pt x="11401" y="9323"/>
                  <a:pt x="11409" y="9564"/>
                  <a:pt x="11534" y="9674"/>
                </a:cubicBezTo>
                <a:cubicBezTo>
                  <a:pt x="11674" y="9797"/>
                  <a:pt x="11832" y="9559"/>
                  <a:pt x="11857" y="9451"/>
                </a:cubicBezTo>
                <a:cubicBezTo>
                  <a:pt x="11895" y="9284"/>
                  <a:pt x="11794" y="9230"/>
                  <a:pt x="11658" y="9203"/>
                </a:cubicBezTo>
              </a:path>
              <a:path w="7591" h="14041">
                <a:moveTo>
                  <a:pt x="11609" y="9897"/>
                </a:moveTo>
                <a:cubicBezTo>
                  <a:pt x="11633" y="9996"/>
                  <a:pt x="11641" y="10095"/>
                  <a:pt x="11658" y="10195"/>
                </a:cubicBezTo>
                <a:cubicBezTo>
                  <a:pt x="11679" y="10318"/>
                  <a:pt x="11718" y="10445"/>
                  <a:pt x="11733" y="10567"/>
                </a:cubicBezTo>
                <a:cubicBezTo>
                  <a:pt x="11748" y="10693"/>
                  <a:pt x="11752" y="10816"/>
                  <a:pt x="11782" y="10939"/>
                </a:cubicBezTo>
                <a:cubicBezTo>
                  <a:pt x="11814" y="11071"/>
                  <a:pt x="11844" y="11202"/>
                  <a:pt x="11857" y="11336"/>
                </a:cubicBezTo>
                <a:cubicBezTo>
                  <a:pt x="11866" y="11428"/>
                  <a:pt x="11848" y="11527"/>
                  <a:pt x="11881" y="11584"/>
                </a:cubicBezTo>
              </a:path>
              <a:path w="7591" h="14041">
                <a:moveTo>
                  <a:pt x="11931" y="12030"/>
                </a:moveTo>
                <a:cubicBezTo>
                  <a:pt x="11887" y="12105"/>
                  <a:pt x="11807" y="12171"/>
                  <a:pt x="11782" y="12278"/>
                </a:cubicBezTo>
                <a:cubicBezTo>
                  <a:pt x="11761" y="12365"/>
                  <a:pt x="11773" y="12483"/>
                  <a:pt x="11832" y="12551"/>
                </a:cubicBezTo>
                <a:cubicBezTo>
                  <a:pt x="11900" y="12630"/>
                  <a:pt x="11961" y="12614"/>
                  <a:pt x="12030" y="12551"/>
                </a:cubicBezTo>
                <a:cubicBezTo>
                  <a:pt x="12124" y="12466"/>
                  <a:pt x="12152" y="12355"/>
                  <a:pt x="12129" y="12229"/>
                </a:cubicBezTo>
                <a:cubicBezTo>
                  <a:pt x="12118" y="12170"/>
                  <a:pt x="12075" y="12085"/>
                  <a:pt x="12030" y="12055"/>
                </a:cubicBezTo>
                <a:cubicBezTo>
                  <a:pt x="12005" y="12038"/>
                  <a:pt x="11988" y="12054"/>
                  <a:pt x="11956" y="12030"/>
                </a:cubicBezTo>
              </a:path>
              <a:path w="7591" h="14041">
                <a:moveTo>
                  <a:pt x="11385" y="8210"/>
                </a:moveTo>
                <a:cubicBezTo>
                  <a:pt x="11417" y="8100"/>
                  <a:pt x="11323" y="8097"/>
                  <a:pt x="11237" y="8161"/>
                </a:cubicBezTo>
                <a:cubicBezTo>
                  <a:pt x="11174" y="8223"/>
                  <a:pt x="11156" y="8233"/>
                  <a:pt x="11137" y="8285"/>
                </a:cubicBezTo>
                <a:cubicBezTo>
                  <a:pt x="11222" y="8359"/>
                  <a:pt x="11412" y="8349"/>
                  <a:pt x="11460" y="8483"/>
                </a:cubicBezTo>
                <a:cubicBezTo>
                  <a:pt x="11497" y="8588"/>
                  <a:pt x="11427" y="8632"/>
                  <a:pt x="11361" y="8682"/>
                </a:cubicBezTo>
                <a:cubicBezTo>
                  <a:pt x="11305" y="8516"/>
                  <a:pt x="11325" y="8377"/>
                  <a:pt x="11385" y="8210"/>
                </a:cubicBezTo>
                <a:cubicBezTo>
                  <a:pt x="11399" y="8170"/>
                  <a:pt x="11436" y="8178"/>
                  <a:pt x="11385" y="8161"/>
                </a:cubicBezTo>
              </a:path>
              <a:path w="7591" h="14041">
                <a:moveTo>
                  <a:pt x="11733" y="12923"/>
                </a:moveTo>
                <a:cubicBezTo>
                  <a:pt x="11656" y="12846"/>
                  <a:pt x="11517" y="12983"/>
                  <a:pt x="11435" y="13047"/>
                </a:cubicBezTo>
                <a:cubicBezTo>
                  <a:pt x="11427" y="13055"/>
                  <a:pt x="11418" y="13064"/>
                  <a:pt x="11410" y="13072"/>
                </a:cubicBezTo>
                <a:cubicBezTo>
                  <a:pt x="11513" y="13101"/>
                  <a:pt x="11804" y="13120"/>
                  <a:pt x="11733" y="13295"/>
                </a:cubicBezTo>
                <a:cubicBezTo>
                  <a:pt x="11708" y="13312"/>
                  <a:pt x="11683" y="13328"/>
                  <a:pt x="11658" y="13345"/>
                </a:cubicBezTo>
                <a:cubicBezTo>
                  <a:pt x="11517" y="13223"/>
                  <a:pt x="11642" y="13136"/>
                  <a:pt x="11708" y="12998"/>
                </a:cubicBezTo>
                <a:cubicBezTo>
                  <a:pt x="11708" y="12973"/>
                  <a:pt x="11708" y="12965"/>
                  <a:pt x="11708" y="12948"/>
                </a:cubicBezTo>
              </a:path>
              <a:path w="7591" h="14041">
                <a:moveTo>
                  <a:pt x="12105" y="12799"/>
                </a:moveTo>
                <a:cubicBezTo>
                  <a:pt x="12031" y="12836"/>
                  <a:pt x="11992" y="12862"/>
                  <a:pt x="11931" y="12923"/>
                </a:cubicBezTo>
                <a:cubicBezTo>
                  <a:pt x="12117" y="12978"/>
                  <a:pt x="12241" y="12974"/>
                  <a:pt x="12154" y="13146"/>
                </a:cubicBezTo>
                <a:cubicBezTo>
                  <a:pt x="11951" y="13106"/>
                  <a:pt x="12121" y="12933"/>
                  <a:pt x="12229" y="12799"/>
                </a:cubicBezTo>
                <a:cubicBezTo>
                  <a:pt x="12259" y="12769"/>
                  <a:pt x="12264" y="12767"/>
                  <a:pt x="12229" y="12824"/>
                </a:cubicBezTo>
              </a:path>
              <a:path w="7591" h="14041">
                <a:moveTo>
                  <a:pt x="11534" y="13494"/>
                </a:moveTo>
                <a:cubicBezTo>
                  <a:pt x="11950" y="13360"/>
                  <a:pt x="12365" y="13224"/>
                  <a:pt x="12774" y="13072"/>
                </a:cubicBezTo>
              </a:path>
              <a:path w="7591" h="14041">
                <a:moveTo>
                  <a:pt x="12229" y="13370"/>
                </a:moveTo>
                <a:cubicBezTo>
                  <a:pt x="12259" y="13279"/>
                  <a:pt x="12376" y="13125"/>
                  <a:pt x="12502" y="13221"/>
                </a:cubicBezTo>
                <a:cubicBezTo>
                  <a:pt x="12607" y="13301"/>
                  <a:pt x="12417" y="13521"/>
                  <a:pt x="12378" y="13593"/>
                </a:cubicBezTo>
                <a:cubicBezTo>
                  <a:pt x="12361" y="13610"/>
                  <a:pt x="12345" y="13626"/>
                  <a:pt x="12328" y="13643"/>
                </a:cubicBezTo>
                <a:cubicBezTo>
                  <a:pt x="12576" y="13581"/>
                  <a:pt x="12653" y="13447"/>
                  <a:pt x="12799" y="13246"/>
                </a:cubicBezTo>
              </a:path>
              <a:path w="7591" h="14041">
                <a:moveTo>
                  <a:pt x="12998" y="12898"/>
                </a:moveTo>
                <a:cubicBezTo>
                  <a:pt x="12795" y="13050"/>
                  <a:pt x="12824" y="13194"/>
                  <a:pt x="12898" y="13419"/>
                </a:cubicBezTo>
                <a:cubicBezTo>
                  <a:pt x="13076" y="13309"/>
                  <a:pt x="13250" y="13054"/>
                  <a:pt x="12973" y="12898"/>
                </a:cubicBezTo>
                <a:cubicBezTo>
                  <a:pt x="12749" y="12843"/>
                  <a:pt x="12667" y="12806"/>
                  <a:pt x="12601" y="12626"/>
                </a:cubicBezTo>
              </a:path>
              <a:path w="7591" h="14041">
                <a:moveTo>
                  <a:pt x="12129" y="9079"/>
                </a:moveTo>
                <a:cubicBezTo>
                  <a:pt x="12063" y="9012"/>
                  <a:pt x="12047" y="8995"/>
                  <a:pt x="12005" y="8954"/>
                </a:cubicBezTo>
                <a:cubicBezTo>
                  <a:pt x="11927" y="9036"/>
                  <a:pt x="12021" y="9323"/>
                  <a:pt x="12080" y="9426"/>
                </a:cubicBezTo>
                <a:cubicBezTo>
                  <a:pt x="12113" y="9459"/>
                  <a:pt x="12146" y="9492"/>
                  <a:pt x="12179" y="9525"/>
                </a:cubicBezTo>
                <a:cubicBezTo>
                  <a:pt x="12264" y="9445"/>
                  <a:pt x="12528" y="9037"/>
                  <a:pt x="12204" y="9004"/>
                </a:cubicBezTo>
                <a:cubicBezTo>
                  <a:pt x="12179" y="9021"/>
                  <a:pt x="12154" y="9037"/>
                  <a:pt x="12129" y="9054"/>
                </a:cubicBezTo>
              </a:path>
              <a:path w="7591" h="14041">
                <a:moveTo>
                  <a:pt x="12303" y="9500"/>
                </a:moveTo>
                <a:cubicBezTo>
                  <a:pt x="12332" y="9930"/>
                  <a:pt x="12429" y="10345"/>
                  <a:pt x="12526" y="10765"/>
                </a:cubicBezTo>
                <a:cubicBezTo>
                  <a:pt x="12629" y="11211"/>
                  <a:pt x="12743" y="11655"/>
                  <a:pt x="12824" y="12105"/>
                </a:cubicBezTo>
                <a:cubicBezTo>
                  <a:pt x="12866" y="12340"/>
                  <a:pt x="12924" y="12567"/>
                  <a:pt x="12973" y="12799"/>
                </a:cubicBezTo>
                <a:cubicBezTo>
                  <a:pt x="12989" y="12873"/>
                  <a:pt x="12983" y="12849"/>
                  <a:pt x="12998" y="12923"/>
                </a:cubicBezTo>
              </a:path>
              <a:path w="7591" h="14041">
                <a:moveTo>
                  <a:pt x="12650" y="13543"/>
                </a:moveTo>
                <a:cubicBezTo>
                  <a:pt x="12675" y="13496"/>
                  <a:pt x="12718" y="13662"/>
                  <a:pt x="12725" y="13692"/>
                </a:cubicBezTo>
                <a:cubicBezTo>
                  <a:pt x="12756" y="13823"/>
                  <a:pt x="12731" y="13944"/>
                  <a:pt x="12849" y="13866"/>
                </a:cubicBezTo>
              </a:path>
              <a:path w="7591" h="14041">
                <a:moveTo>
                  <a:pt x="11733" y="8186"/>
                </a:moveTo>
                <a:cubicBezTo>
                  <a:pt x="11733" y="8158"/>
                  <a:pt x="11731" y="8147"/>
                  <a:pt x="11708" y="8136"/>
                </a:cubicBezTo>
                <a:cubicBezTo>
                  <a:pt x="11722" y="8136"/>
                  <a:pt x="11837" y="8501"/>
                  <a:pt x="11881" y="8607"/>
                </a:cubicBezTo>
                <a:cubicBezTo>
                  <a:pt x="11901" y="8648"/>
                  <a:pt x="11920" y="8664"/>
                  <a:pt x="11881" y="8657"/>
                </a:cubicBezTo>
              </a:path>
              <a:path w="7591" h="14041">
                <a:moveTo>
                  <a:pt x="11162" y="7888"/>
                </a:moveTo>
                <a:cubicBezTo>
                  <a:pt x="11277" y="7865"/>
                  <a:pt x="11361" y="7785"/>
                  <a:pt x="11485" y="7764"/>
                </a:cubicBezTo>
                <a:cubicBezTo>
                  <a:pt x="11578" y="7748"/>
                  <a:pt x="11454" y="7796"/>
                  <a:pt x="11361" y="7813"/>
                </a:cubicBezTo>
                <a:cubicBezTo>
                  <a:pt x="11237" y="7834"/>
                  <a:pt x="11213" y="7842"/>
                  <a:pt x="11137" y="7838"/>
                </a:cubicBezTo>
                <a:cubicBezTo>
                  <a:pt x="11341" y="7819"/>
                  <a:pt x="11551" y="7771"/>
                  <a:pt x="11757" y="7789"/>
                </a:cubicBezTo>
                <a:cubicBezTo>
                  <a:pt x="11782" y="7797"/>
                  <a:pt x="11807" y="7805"/>
                  <a:pt x="11832" y="7813"/>
                </a:cubicBezTo>
                <a:cubicBezTo>
                  <a:pt x="11658" y="7813"/>
                  <a:pt x="11210" y="7728"/>
                  <a:pt x="11361" y="7813"/>
                </a:cubicBezTo>
                <a:cubicBezTo>
                  <a:pt x="11491" y="7887"/>
                  <a:pt x="11676" y="7828"/>
                  <a:pt x="11807" y="7789"/>
                </a:cubicBezTo>
                <a:cubicBezTo>
                  <a:pt x="11647" y="7789"/>
                  <a:pt x="11494" y="7824"/>
                  <a:pt x="11336" y="7838"/>
                </a:cubicBezTo>
                <a:cubicBezTo>
                  <a:pt x="11143" y="7856"/>
                  <a:pt x="11656" y="7776"/>
                  <a:pt x="11708" y="7764"/>
                </a:cubicBezTo>
                <a:cubicBezTo>
                  <a:pt x="11770" y="7749"/>
                  <a:pt x="11778" y="7739"/>
                  <a:pt x="11832" y="7739"/>
                </a:cubicBezTo>
              </a:path>
              <a:path w="7591" h="14041">
                <a:moveTo>
                  <a:pt x="11237" y="7417"/>
                </a:moveTo>
                <a:cubicBezTo>
                  <a:pt x="11104" y="7359"/>
                  <a:pt x="11066" y="7326"/>
                  <a:pt x="10914" y="7317"/>
                </a:cubicBezTo>
                <a:cubicBezTo>
                  <a:pt x="10672" y="7303"/>
                  <a:pt x="10467" y="7370"/>
                  <a:pt x="10244" y="7441"/>
                </a:cubicBezTo>
                <a:cubicBezTo>
                  <a:pt x="10006" y="7517"/>
                  <a:pt x="9776" y="7605"/>
                  <a:pt x="9550" y="7714"/>
                </a:cubicBezTo>
                <a:cubicBezTo>
                  <a:pt x="9348" y="7811"/>
                  <a:pt x="9198" y="7920"/>
                  <a:pt x="9029" y="8062"/>
                </a:cubicBezTo>
                <a:cubicBezTo>
                  <a:pt x="8900" y="8171"/>
                  <a:pt x="8717" y="8301"/>
                  <a:pt x="8682" y="8483"/>
                </a:cubicBezTo>
                <a:cubicBezTo>
                  <a:pt x="8645" y="8675"/>
                  <a:pt x="8724" y="8764"/>
                  <a:pt x="8880" y="8855"/>
                </a:cubicBezTo>
                <a:cubicBezTo>
                  <a:pt x="9131" y="9001"/>
                  <a:pt x="9364" y="8875"/>
                  <a:pt x="9624" y="8880"/>
                </a:cubicBezTo>
                <a:cubicBezTo>
                  <a:pt x="9829" y="8884"/>
                  <a:pt x="10036" y="8905"/>
                  <a:pt x="10244" y="8905"/>
                </a:cubicBezTo>
                <a:cubicBezTo>
                  <a:pt x="10452" y="8905"/>
                  <a:pt x="10655" y="8880"/>
                  <a:pt x="10864" y="8880"/>
                </a:cubicBezTo>
                <a:cubicBezTo>
                  <a:pt x="11106" y="8880"/>
                  <a:pt x="11340" y="8830"/>
                  <a:pt x="11584" y="8830"/>
                </a:cubicBezTo>
                <a:cubicBezTo>
                  <a:pt x="11807" y="8830"/>
                  <a:pt x="12033" y="8830"/>
                  <a:pt x="12254" y="8806"/>
                </a:cubicBezTo>
                <a:cubicBezTo>
                  <a:pt x="12484" y="8781"/>
                  <a:pt x="12728" y="8732"/>
                  <a:pt x="12948" y="8657"/>
                </a:cubicBezTo>
                <a:cubicBezTo>
                  <a:pt x="13050" y="8622"/>
                  <a:pt x="13168" y="8558"/>
                  <a:pt x="13221" y="8458"/>
                </a:cubicBezTo>
                <a:cubicBezTo>
                  <a:pt x="13258" y="8387"/>
                  <a:pt x="13248" y="8327"/>
                  <a:pt x="13246" y="8260"/>
                </a:cubicBezTo>
                <a:cubicBezTo>
                  <a:pt x="13244" y="8174"/>
                  <a:pt x="13223" y="8135"/>
                  <a:pt x="13171" y="8062"/>
                </a:cubicBezTo>
                <a:cubicBezTo>
                  <a:pt x="13132" y="8007"/>
                  <a:pt x="13057" y="7955"/>
                  <a:pt x="13022" y="7913"/>
                </a:cubicBezTo>
                <a:cubicBezTo>
                  <a:pt x="12995" y="7881"/>
                  <a:pt x="12942" y="7800"/>
                  <a:pt x="12923" y="7789"/>
                </a:cubicBezTo>
                <a:cubicBezTo>
                  <a:pt x="12879" y="7762"/>
                  <a:pt x="12796" y="7713"/>
                  <a:pt x="12750" y="7689"/>
                </a:cubicBezTo>
                <a:cubicBezTo>
                  <a:pt x="12640" y="7631"/>
                  <a:pt x="12523" y="7592"/>
                  <a:pt x="12402" y="7565"/>
                </a:cubicBezTo>
                <a:cubicBezTo>
                  <a:pt x="12189" y="7517"/>
                  <a:pt x="11988" y="7495"/>
                  <a:pt x="11782" y="7417"/>
                </a:cubicBezTo>
                <a:cubicBezTo>
                  <a:pt x="11596" y="7346"/>
                  <a:pt x="11416" y="7280"/>
                  <a:pt x="11212" y="7293"/>
                </a:cubicBezTo>
                <a:cubicBezTo>
                  <a:pt x="10966" y="7309"/>
                  <a:pt x="10738" y="7298"/>
                  <a:pt x="10492" y="7293"/>
                </a:cubicBezTo>
                <a:cubicBezTo>
                  <a:pt x="10419" y="7292"/>
                  <a:pt x="10326" y="7310"/>
                  <a:pt x="10294" y="7317"/>
                </a:cubicBezTo>
              </a:path>
              <a:path w="7591" h="14041">
                <a:moveTo>
                  <a:pt x="8905" y="14932"/>
                </a:moveTo>
                <a:cubicBezTo>
                  <a:pt x="8949" y="14800"/>
                  <a:pt x="9003" y="14801"/>
                  <a:pt x="9128" y="14784"/>
                </a:cubicBezTo>
                <a:cubicBezTo>
                  <a:pt x="9154" y="14840"/>
                  <a:pt x="9234" y="15147"/>
                  <a:pt x="9054" y="15106"/>
                </a:cubicBezTo>
                <a:cubicBezTo>
                  <a:pt x="9054" y="15089"/>
                  <a:pt x="9054" y="15073"/>
                  <a:pt x="9054" y="15056"/>
                </a:cubicBezTo>
                <a:cubicBezTo>
                  <a:pt x="9194" y="15084"/>
                  <a:pt x="9329" y="15180"/>
                  <a:pt x="9277" y="15354"/>
                </a:cubicBezTo>
                <a:cubicBezTo>
                  <a:pt x="9220" y="15544"/>
                  <a:pt x="8994" y="15506"/>
                  <a:pt x="8855" y="15478"/>
                </a:cubicBezTo>
              </a:path>
              <a:path w="7591" h="14041">
                <a:moveTo>
                  <a:pt x="8657" y="15801"/>
                </a:moveTo>
                <a:cubicBezTo>
                  <a:pt x="8646" y="15519"/>
                  <a:pt x="8617" y="15238"/>
                  <a:pt x="8582" y="14957"/>
                </a:cubicBezTo>
                <a:cubicBezTo>
                  <a:pt x="8570" y="14860"/>
                  <a:pt x="8563" y="14797"/>
                  <a:pt x="8558" y="14709"/>
                </a:cubicBezTo>
                <a:cubicBezTo>
                  <a:pt x="8837" y="14663"/>
                  <a:pt x="9117" y="14599"/>
                  <a:pt x="9401" y="14560"/>
                </a:cubicBezTo>
                <a:cubicBezTo>
                  <a:pt x="9760" y="14511"/>
                  <a:pt x="10106" y="14461"/>
                  <a:pt x="10468" y="14461"/>
                </a:cubicBezTo>
              </a:path>
              <a:path w="7591" h="14041">
                <a:moveTo>
                  <a:pt x="8334" y="14957"/>
                </a:moveTo>
                <a:cubicBezTo>
                  <a:pt x="8286" y="14860"/>
                  <a:pt x="8174" y="14884"/>
                  <a:pt x="8086" y="14932"/>
                </a:cubicBezTo>
                <a:cubicBezTo>
                  <a:pt x="7953" y="15022"/>
                  <a:pt x="7915" y="15041"/>
                  <a:pt x="7863" y="15131"/>
                </a:cubicBezTo>
                <a:cubicBezTo>
                  <a:pt x="7949" y="15331"/>
                  <a:pt x="8164" y="15301"/>
                  <a:pt x="8285" y="15478"/>
                </a:cubicBezTo>
                <a:cubicBezTo>
                  <a:pt x="8434" y="15695"/>
                  <a:pt x="8181" y="15714"/>
                  <a:pt x="8062" y="15677"/>
                </a:cubicBezTo>
                <a:cubicBezTo>
                  <a:pt x="8061" y="15448"/>
                  <a:pt x="8214" y="15304"/>
                  <a:pt x="8285" y="15081"/>
                </a:cubicBezTo>
                <a:cubicBezTo>
                  <a:pt x="8285" y="15056"/>
                  <a:pt x="8285" y="15032"/>
                  <a:pt x="8285" y="15007"/>
                </a:cubicBezTo>
              </a:path>
              <a:path w="7591" h="14041">
                <a:moveTo>
                  <a:pt x="9029" y="13915"/>
                </a:moveTo>
                <a:cubicBezTo>
                  <a:pt x="9029" y="13890"/>
                  <a:pt x="9029" y="13866"/>
                  <a:pt x="9029" y="13841"/>
                </a:cubicBezTo>
                <a:cubicBezTo>
                  <a:pt x="8916" y="13818"/>
                  <a:pt x="8867" y="13863"/>
                  <a:pt x="8830" y="13990"/>
                </a:cubicBezTo>
                <a:cubicBezTo>
                  <a:pt x="8798" y="14099"/>
                  <a:pt x="8760" y="14277"/>
                  <a:pt x="8880" y="14337"/>
                </a:cubicBezTo>
                <a:cubicBezTo>
                  <a:pt x="8990" y="14392"/>
                  <a:pt x="9085" y="14317"/>
                  <a:pt x="9128" y="14213"/>
                </a:cubicBezTo>
                <a:cubicBezTo>
                  <a:pt x="9166" y="14122"/>
                  <a:pt x="9171" y="14015"/>
                  <a:pt x="9103" y="13940"/>
                </a:cubicBezTo>
                <a:cubicBezTo>
                  <a:pt x="9050" y="13882"/>
                  <a:pt x="9018" y="13857"/>
                  <a:pt x="8954" y="13841"/>
                </a:cubicBezTo>
              </a:path>
              <a:path w="7591" h="14041">
                <a:moveTo>
                  <a:pt x="9500" y="15280"/>
                </a:moveTo>
                <a:cubicBezTo>
                  <a:pt x="9500" y="15221"/>
                  <a:pt x="9409" y="15431"/>
                  <a:pt x="9550" y="15280"/>
                </a:cubicBezTo>
                <a:cubicBezTo>
                  <a:pt x="9558" y="15263"/>
                  <a:pt x="9567" y="15247"/>
                  <a:pt x="9575" y="15230"/>
                </a:cubicBezTo>
                <a:cubicBezTo>
                  <a:pt x="9538" y="15236"/>
                  <a:pt x="9480" y="15257"/>
                  <a:pt x="9525" y="15280"/>
                </a:cubicBezTo>
                <a:cubicBezTo>
                  <a:pt x="9556" y="15157"/>
                  <a:pt x="9561" y="15100"/>
                  <a:pt x="9525" y="15007"/>
                </a:cubicBezTo>
              </a:path>
              <a:path w="7591" h="14041">
                <a:moveTo>
                  <a:pt x="9451" y="14089"/>
                </a:moveTo>
                <a:cubicBezTo>
                  <a:pt x="9410" y="14144"/>
                  <a:pt x="9406" y="14191"/>
                  <a:pt x="9401" y="14263"/>
                </a:cubicBezTo>
                <a:cubicBezTo>
                  <a:pt x="9401" y="14271"/>
                  <a:pt x="9401" y="14280"/>
                  <a:pt x="9401" y="14288"/>
                </a:cubicBezTo>
                <a:cubicBezTo>
                  <a:pt x="9408" y="14276"/>
                  <a:pt x="9458" y="14128"/>
                  <a:pt x="9401" y="14163"/>
                </a:cubicBezTo>
                <a:cubicBezTo>
                  <a:pt x="9307" y="14221"/>
                  <a:pt x="9367" y="14371"/>
                  <a:pt x="9426" y="14288"/>
                </a:cubicBezTo>
                <a:cubicBezTo>
                  <a:pt x="9434" y="14263"/>
                  <a:pt x="9443" y="14238"/>
                  <a:pt x="9451" y="14213"/>
                </a:cubicBezTo>
                <a:cubicBezTo>
                  <a:pt x="9451" y="14120"/>
                  <a:pt x="9407" y="14202"/>
                  <a:pt x="9426" y="14238"/>
                </a:cubicBezTo>
                <a:cubicBezTo>
                  <a:pt x="9442" y="14255"/>
                  <a:pt x="9459" y="14271"/>
                  <a:pt x="9475" y="14288"/>
                </a:cubicBezTo>
              </a:path>
              <a:path w="7591" h="14041">
                <a:moveTo>
                  <a:pt x="9947" y="14858"/>
                </a:moveTo>
                <a:cubicBezTo>
                  <a:pt x="9900" y="14763"/>
                  <a:pt x="9802" y="14849"/>
                  <a:pt x="9773" y="14932"/>
                </a:cubicBezTo>
                <a:cubicBezTo>
                  <a:pt x="9722" y="15080"/>
                  <a:pt x="9761" y="15156"/>
                  <a:pt x="9823" y="15280"/>
                </a:cubicBezTo>
                <a:cubicBezTo>
                  <a:pt x="9994" y="15248"/>
                  <a:pt x="10118" y="15171"/>
                  <a:pt x="10071" y="14957"/>
                </a:cubicBezTo>
                <a:cubicBezTo>
                  <a:pt x="10048" y="14851"/>
                  <a:pt x="9952" y="14858"/>
                  <a:pt x="9872" y="14858"/>
                </a:cubicBezTo>
              </a:path>
              <a:path w="7591" h="14041">
                <a:moveTo>
                  <a:pt x="9674" y="13791"/>
                </a:moveTo>
                <a:cubicBezTo>
                  <a:pt x="9707" y="13748"/>
                  <a:pt x="9690" y="13716"/>
                  <a:pt x="9723" y="13667"/>
                </a:cubicBezTo>
                <a:cubicBezTo>
                  <a:pt x="9763" y="13607"/>
                  <a:pt x="9860" y="13557"/>
                  <a:pt x="9922" y="13618"/>
                </a:cubicBezTo>
                <a:cubicBezTo>
                  <a:pt x="10012" y="13707"/>
                  <a:pt x="9901" y="13836"/>
                  <a:pt x="9872" y="13915"/>
                </a:cubicBezTo>
                <a:cubicBezTo>
                  <a:pt x="9858" y="13955"/>
                  <a:pt x="9822" y="14139"/>
                  <a:pt x="9798" y="14163"/>
                </a:cubicBezTo>
                <a:cubicBezTo>
                  <a:pt x="9773" y="14163"/>
                  <a:pt x="9765" y="14163"/>
                  <a:pt x="9773" y="14188"/>
                </a:cubicBezTo>
                <a:cubicBezTo>
                  <a:pt x="9824" y="14171"/>
                  <a:pt x="9782" y="14143"/>
                  <a:pt x="9798" y="14089"/>
                </a:cubicBezTo>
                <a:cubicBezTo>
                  <a:pt x="9824" y="14002"/>
                  <a:pt x="9852" y="14014"/>
                  <a:pt x="9922" y="13965"/>
                </a:cubicBezTo>
                <a:cubicBezTo>
                  <a:pt x="9960" y="13939"/>
                  <a:pt x="10032" y="13942"/>
                  <a:pt x="10071" y="13990"/>
                </a:cubicBezTo>
                <a:cubicBezTo>
                  <a:pt x="10112" y="14041"/>
                  <a:pt x="10125" y="14262"/>
                  <a:pt x="10071" y="14312"/>
                </a:cubicBezTo>
                <a:cubicBezTo>
                  <a:pt x="9995" y="14383"/>
                  <a:pt x="9823" y="14411"/>
                  <a:pt x="9723" y="14387"/>
                </a:cubicBezTo>
                <a:cubicBezTo>
                  <a:pt x="9681" y="14377"/>
                  <a:pt x="9659" y="14287"/>
                  <a:pt x="9649" y="14263"/>
                </a:cubicBezTo>
              </a:path>
              <a:path w="7591" h="14041">
                <a:moveTo>
                  <a:pt x="9178" y="15701"/>
                </a:moveTo>
                <a:cubicBezTo>
                  <a:pt x="9144" y="15770"/>
                  <a:pt x="9217" y="15600"/>
                  <a:pt x="9277" y="15577"/>
                </a:cubicBezTo>
                <a:cubicBezTo>
                  <a:pt x="9302" y="15577"/>
                  <a:pt x="9326" y="15577"/>
                  <a:pt x="9351" y="15577"/>
                </a:cubicBezTo>
                <a:cubicBezTo>
                  <a:pt x="9400" y="15739"/>
                  <a:pt x="9477" y="16042"/>
                  <a:pt x="9227" y="16098"/>
                </a:cubicBezTo>
                <a:cubicBezTo>
                  <a:pt x="9139" y="16076"/>
                  <a:pt x="9113" y="16075"/>
                  <a:pt x="9079" y="16024"/>
                </a:cubicBezTo>
                <a:cubicBezTo>
                  <a:pt x="9173" y="15897"/>
                  <a:pt x="9254" y="15905"/>
                  <a:pt x="9401" y="15974"/>
                </a:cubicBezTo>
                <a:cubicBezTo>
                  <a:pt x="9457" y="16012"/>
                  <a:pt x="9482" y="16007"/>
                  <a:pt x="9475" y="16049"/>
                </a:cubicBezTo>
              </a:path>
              <a:path w="7591" h="14041">
                <a:moveTo>
                  <a:pt x="9699" y="15627"/>
                </a:moveTo>
                <a:cubicBezTo>
                  <a:pt x="9681" y="15699"/>
                  <a:pt x="9674" y="15750"/>
                  <a:pt x="9674" y="15825"/>
                </a:cubicBezTo>
                <a:cubicBezTo>
                  <a:pt x="9827" y="15814"/>
                  <a:pt x="9894" y="15789"/>
                  <a:pt x="9996" y="15677"/>
                </a:cubicBezTo>
              </a:path>
              <a:path w="7591" h="14041">
                <a:moveTo>
                  <a:pt x="9897" y="15379"/>
                </a:moveTo>
                <a:cubicBezTo>
                  <a:pt x="9897" y="15555"/>
                  <a:pt x="9915" y="15725"/>
                  <a:pt x="9922" y="15900"/>
                </a:cubicBezTo>
                <a:cubicBezTo>
                  <a:pt x="9922" y="15908"/>
                  <a:pt x="9922" y="15917"/>
                  <a:pt x="9922" y="15925"/>
                </a:cubicBezTo>
              </a:path>
              <a:path w="7591" h="14041">
                <a:moveTo>
                  <a:pt x="8682" y="16098"/>
                </a:moveTo>
                <a:cubicBezTo>
                  <a:pt x="8734" y="16085"/>
                  <a:pt x="8801" y="16047"/>
                  <a:pt x="8855" y="16024"/>
                </a:cubicBezTo>
                <a:cubicBezTo>
                  <a:pt x="8872" y="16016"/>
                  <a:pt x="8888" y="16007"/>
                  <a:pt x="8905" y="15999"/>
                </a:cubicBezTo>
              </a:path>
              <a:path w="7591" h="14041">
                <a:moveTo>
                  <a:pt x="8533" y="16247"/>
                </a:moveTo>
                <a:cubicBezTo>
                  <a:pt x="8914" y="16165"/>
                  <a:pt x="9260" y="16065"/>
                  <a:pt x="9649" y="16024"/>
                </a:cubicBezTo>
                <a:cubicBezTo>
                  <a:pt x="9815" y="16006"/>
                  <a:pt x="9937" y="16004"/>
                  <a:pt x="10096" y="15999"/>
                </a:cubicBezTo>
              </a:path>
              <a:path w="7591" h="14041">
                <a:moveTo>
                  <a:pt x="9798" y="16173"/>
                </a:moveTo>
                <a:cubicBezTo>
                  <a:pt x="9847" y="16302"/>
                  <a:pt x="9784" y="16428"/>
                  <a:pt x="9798" y="16570"/>
                </a:cubicBezTo>
                <a:cubicBezTo>
                  <a:pt x="9810" y="16691"/>
                  <a:pt x="9875" y="16735"/>
                  <a:pt x="9996" y="16718"/>
                </a:cubicBezTo>
                <a:cubicBezTo>
                  <a:pt x="10112" y="16701"/>
                  <a:pt x="10169" y="16598"/>
                  <a:pt x="10195" y="16495"/>
                </a:cubicBezTo>
                <a:cubicBezTo>
                  <a:pt x="10200" y="16474"/>
                  <a:pt x="10195" y="16443"/>
                  <a:pt x="10195" y="16421"/>
                </a:cubicBezTo>
                <a:cubicBezTo>
                  <a:pt x="10085" y="16471"/>
                  <a:pt x="10018" y="16525"/>
                  <a:pt x="10046" y="16669"/>
                </a:cubicBezTo>
                <a:cubicBezTo>
                  <a:pt x="10054" y="16685"/>
                  <a:pt x="10063" y="16702"/>
                  <a:pt x="10071" y="16718"/>
                </a:cubicBezTo>
              </a:path>
              <a:path w="7591" h="14041">
                <a:moveTo>
                  <a:pt x="10542" y="14709"/>
                </a:moveTo>
                <a:cubicBezTo>
                  <a:pt x="10484" y="14665"/>
                  <a:pt x="10384" y="14724"/>
                  <a:pt x="10344" y="14784"/>
                </a:cubicBezTo>
                <a:cubicBezTo>
                  <a:pt x="10273" y="14891"/>
                  <a:pt x="10228" y="15071"/>
                  <a:pt x="10319" y="15180"/>
                </a:cubicBezTo>
                <a:cubicBezTo>
                  <a:pt x="10459" y="15347"/>
                  <a:pt x="10595" y="15098"/>
                  <a:pt x="10616" y="14982"/>
                </a:cubicBezTo>
                <a:cubicBezTo>
                  <a:pt x="10627" y="14921"/>
                  <a:pt x="10561" y="14732"/>
                  <a:pt x="10468" y="14784"/>
                </a:cubicBezTo>
                <a:cubicBezTo>
                  <a:pt x="10468" y="14826"/>
                  <a:pt x="10474" y="14852"/>
                  <a:pt x="10492" y="14883"/>
                </a:cubicBezTo>
              </a:path>
              <a:path w="7591" h="14041">
                <a:moveTo>
                  <a:pt x="10492" y="15304"/>
                </a:moveTo>
                <a:cubicBezTo>
                  <a:pt x="10492" y="15288"/>
                  <a:pt x="10492" y="15271"/>
                  <a:pt x="10492" y="15255"/>
                </a:cubicBezTo>
                <a:cubicBezTo>
                  <a:pt x="10439" y="15273"/>
                  <a:pt x="10514" y="15600"/>
                  <a:pt x="10517" y="15627"/>
                </a:cubicBezTo>
                <a:cubicBezTo>
                  <a:pt x="10532" y="15748"/>
                  <a:pt x="10542" y="15854"/>
                  <a:pt x="10542" y="15974"/>
                </a:cubicBezTo>
                <a:cubicBezTo>
                  <a:pt x="10542" y="16016"/>
                  <a:pt x="10542" y="16024"/>
                  <a:pt x="10542" y="16049"/>
                </a:cubicBezTo>
              </a:path>
              <a:path w="7591" h="14041">
                <a:moveTo>
                  <a:pt x="10418" y="15925"/>
                </a:moveTo>
                <a:cubicBezTo>
                  <a:pt x="10484" y="15986"/>
                  <a:pt x="10556" y="16077"/>
                  <a:pt x="10641" y="16098"/>
                </a:cubicBezTo>
                <a:cubicBezTo>
                  <a:pt x="10679" y="15979"/>
                  <a:pt x="10728" y="15876"/>
                  <a:pt x="10740" y="15751"/>
                </a:cubicBezTo>
              </a:path>
              <a:path w="7591" h="14041">
                <a:moveTo>
                  <a:pt x="10616" y="16173"/>
                </a:moveTo>
                <a:cubicBezTo>
                  <a:pt x="10616" y="16156"/>
                  <a:pt x="10616" y="16140"/>
                  <a:pt x="10616" y="16123"/>
                </a:cubicBezTo>
                <a:cubicBezTo>
                  <a:pt x="10540" y="16123"/>
                  <a:pt x="10484" y="16140"/>
                  <a:pt x="10443" y="16222"/>
                </a:cubicBezTo>
                <a:cubicBezTo>
                  <a:pt x="10382" y="16344"/>
                  <a:pt x="10352" y="16561"/>
                  <a:pt x="10443" y="16669"/>
                </a:cubicBezTo>
                <a:cubicBezTo>
                  <a:pt x="10560" y="16808"/>
                  <a:pt x="10720" y="16674"/>
                  <a:pt x="10790" y="16570"/>
                </a:cubicBezTo>
                <a:cubicBezTo>
                  <a:pt x="10881" y="16435"/>
                  <a:pt x="10889" y="16342"/>
                  <a:pt x="10765" y="16247"/>
                </a:cubicBezTo>
                <a:cubicBezTo>
                  <a:pt x="10682" y="16183"/>
                  <a:pt x="10630" y="16184"/>
                  <a:pt x="10542" y="16222"/>
                </a:cubicBezTo>
              </a:path>
              <a:path w="7591" h="14041">
                <a:moveTo>
                  <a:pt x="10220" y="13643"/>
                </a:moveTo>
                <a:cubicBezTo>
                  <a:pt x="10225" y="13696"/>
                  <a:pt x="10236" y="13881"/>
                  <a:pt x="10269" y="13816"/>
                </a:cubicBezTo>
                <a:cubicBezTo>
                  <a:pt x="10262" y="13741"/>
                  <a:pt x="10251" y="13668"/>
                  <a:pt x="10244" y="13593"/>
                </a:cubicBezTo>
                <a:cubicBezTo>
                  <a:pt x="10327" y="13581"/>
                  <a:pt x="10413" y="13556"/>
                  <a:pt x="10492" y="13543"/>
                </a:cubicBezTo>
                <a:cubicBezTo>
                  <a:pt x="10533" y="13543"/>
                  <a:pt x="10550" y="13552"/>
                  <a:pt x="10542" y="13519"/>
                </a:cubicBezTo>
                <a:cubicBezTo>
                  <a:pt x="10605" y="13665"/>
                  <a:pt x="10553" y="13854"/>
                  <a:pt x="10542" y="14015"/>
                </a:cubicBezTo>
                <a:cubicBezTo>
                  <a:pt x="10536" y="14096"/>
                  <a:pt x="10580" y="14111"/>
                  <a:pt x="10567" y="14163"/>
                </a:cubicBezTo>
                <a:cubicBezTo>
                  <a:pt x="10554" y="14213"/>
                  <a:pt x="10542" y="14234"/>
                  <a:pt x="10542" y="14288"/>
                </a:cubicBezTo>
              </a:path>
              <a:path w="7591" h="14041">
                <a:moveTo>
                  <a:pt x="10344" y="16892"/>
                </a:moveTo>
                <a:cubicBezTo>
                  <a:pt x="10279" y="16914"/>
                  <a:pt x="10174" y="16998"/>
                  <a:pt x="10096" y="16991"/>
                </a:cubicBezTo>
                <a:cubicBezTo>
                  <a:pt x="10086" y="16990"/>
                  <a:pt x="10075" y="17084"/>
                  <a:pt x="10071" y="17165"/>
                </a:cubicBezTo>
                <a:cubicBezTo>
                  <a:pt x="10071" y="17173"/>
                  <a:pt x="10071" y="17182"/>
                  <a:pt x="10071" y="17190"/>
                </a:cubicBezTo>
                <a:cubicBezTo>
                  <a:pt x="10156" y="17154"/>
                  <a:pt x="10290" y="17046"/>
                  <a:pt x="10368" y="17165"/>
                </a:cubicBezTo>
                <a:cubicBezTo>
                  <a:pt x="10463" y="17311"/>
                  <a:pt x="10286" y="17398"/>
                  <a:pt x="10170" y="17388"/>
                </a:cubicBezTo>
                <a:cubicBezTo>
                  <a:pt x="10096" y="17369"/>
                  <a:pt x="10089" y="17361"/>
                  <a:pt x="10046" y="17363"/>
                </a:cubicBezTo>
              </a:path>
              <a:path w="7591" h="14041">
                <a:moveTo>
                  <a:pt x="10641" y="16966"/>
                </a:moveTo>
                <a:cubicBezTo>
                  <a:pt x="10623" y="17073"/>
                  <a:pt x="10609" y="17182"/>
                  <a:pt x="10592" y="17289"/>
                </a:cubicBezTo>
                <a:cubicBezTo>
                  <a:pt x="10571" y="17373"/>
                  <a:pt x="10556" y="17392"/>
                  <a:pt x="10592" y="17438"/>
                </a:cubicBezTo>
                <a:cubicBezTo>
                  <a:pt x="10727" y="17423"/>
                  <a:pt x="10811" y="17372"/>
                  <a:pt x="10864" y="17239"/>
                </a:cubicBezTo>
                <a:cubicBezTo>
                  <a:pt x="10864" y="17223"/>
                  <a:pt x="10864" y="17206"/>
                  <a:pt x="10864" y="17190"/>
                </a:cubicBezTo>
                <a:cubicBezTo>
                  <a:pt x="10730" y="17204"/>
                  <a:pt x="10716" y="17242"/>
                  <a:pt x="10666" y="17363"/>
                </a:cubicBezTo>
              </a:path>
              <a:path w="7591" h="14041">
                <a:moveTo>
                  <a:pt x="9624" y="17760"/>
                </a:moveTo>
                <a:cubicBezTo>
                  <a:pt x="9908" y="17647"/>
                  <a:pt x="10187" y="17636"/>
                  <a:pt x="10492" y="17611"/>
                </a:cubicBezTo>
                <a:cubicBezTo>
                  <a:pt x="10702" y="17594"/>
                  <a:pt x="10908" y="17576"/>
                  <a:pt x="11112" y="17537"/>
                </a:cubicBezTo>
              </a:path>
              <a:path w="7591" h="14041">
                <a:moveTo>
                  <a:pt x="10691" y="17760"/>
                </a:moveTo>
                <a:cubicBezTo>
                  <a:pt x="10691" y="17846"/>
                  <a:pt x="10675" y="17924"/>
                  <a:pt x="10666" y="18008"/>
                </a:cubicBezTo>
                <a:cubicBezTo>
                  <a:pt x="10772" y="17987"/>
                  <a:pt x="10827" y="17928"/>
                  <a:pt x="10914" y="17884"/>
                </a:cubicBezTo>
              </a:path>
              <a:path w="7591" h="14041">
                <a:moveTo>
                  <a:pt x="10889" y="17661"/>
                </a:moveTo>
                <a:cubicBezTo>
                  <a:pt x="10889" y="17861"/>
                  <a:pt x="10885" y="18058"/>
                  <a:pt x="10914" y="18256"/>
                </a:cubicBezTo>
                <a:cubicBezTo>
                  <a:pt x="10914" y="18248"/>
                  <a:pt x="10914" y="18239"/>
                  <a:pt x="10914" y="18231"/>
                </a:cubicBezTo>
              </a:path>
              <a:path w="7591" h="14041">
                <a:moveTo>
                  <a:pt x="10269" y="14436"/>
                </a:moveTo>
                <a:cubicBezTo>
                  <a:pt x="10371" y="14428"/>
                  <a:pt x="10463" y="14393"/>
                  <a:pt x="10567" y="14387"/>
                </a:cubicBezTo>
                <a:cubicBezTo>
                  <a:pt x="10919" y="14366"/>
                  <a:pt x="11259" y="14333"/>
                  <a:pt x="11609" y="14288"/>
                </a:cubicBezTo>
                <a:cubicBezTo>
                  <a:pt x="11691" y="14278"/>
                  <a:pt x="11924" y="14247"/>
                  <a:pt x="11981" y="14263"/>
                </a:cubicBezTo>
              </a:path>
              <a:path w="7591" h="14041">
                <a:moveTo>
                  <a:pt x="10939" y="14660"/>
                </a:moveTo>
                <a:cubicBezTo>
                  <a:pt x="10835" y="14600"/>
                  <a:pt x="10791" y="14632"/>
                  <a:pt x="10765" y="14784"/>
                </a:cubicBezTo>
                <a:cubicBezTo>
                  <a:pt x="10765" y="14920"/>
                  <a:pt x="10760" y="14958"/>
                  <a:pt x="10815" y="15032"/>
                </a:cubicBezTo>
                <a:cubicBezTo>
                  <a:pt x="10971" y="15066"/>
                  <a:pt x="11174" y="15064"/>
                  <a:pt x="11187" y="14833"/>
                </a:cubicBezTo>
                <a:cubicBezTo>
                  <a:pt x="11196" y="14677"/>
                  <a:pt x="11056" y="14642"/>
                  <a:pt x="10939" y="14635"/>
                </a:cubicBezTo>
                <a:cubicBezTo>
                  <a:pt x="10898" y="14635"/>
                  <a:pt x="10889" y="14651"/>
                  <a:pt x="10914" y="14709"/>
                </a:cubicBezTo>
              </a:path>
              <a:path w="7591" h="14041">
                <a:moveTo>
                  <a:pt x="11063" y="15081"/>
                </a:moveTo>
                <a:cubicBezTo>
                  <a:pt x="11090" y="15248"/>
                  <a:pt x="11097" y="15410"/>
                  <a:pt x="11112" y="15577"/>
                </a:cubicBezTo>
                <a:cubicBezTo>
                  <a:pt x="11135" y="15834"/>
                  <a:pt x="11144" y="16090"/>
                  <a:pt x="11187" y="16346"/>
                </a:cubicBezTo>
                <a:cubicBezTo>
                  <a:pt x="11212" y="16497"/>
                  <a:pt x="11212" y="16639"/>
                  <a:pt x="11212" y="16793"/>
                </a:cubicBezTo>
                <a:cubicBezTo>
                  <a:pt x="11212" y="16887"/>
                  <a:pt x="11219" y="16955"/>
                  <a:pt x="11237" y="17041"/>
                </a:cubicBezTo>
                <a:cubicBezTo>
                  <a:pt x="11237" y="17049"/>
                  <a:pt x="11237" y="17058"/>
                  <a:pt x="11237" y="17066"/>
                </a:cubicBezTo>
              </a:path>
              <a:path w="7591" h="14041">
                <a:moveTo>
                  <a:pt x="11112" y="16966"/>
                </a:moveTo>
                <a:cubicBezTo>
                  <a:pt x="11153" y="17048"/>
                  <a:pt x="11209" y="17132"/>
                  <a:pt x="11237" y="17214"/>
                </a:cubicBezTo>
                <a:cubicBezTo>
                  <a:pt x="11330" y="17136"/>
                  <a:pt x="11358" y="16989"/>
                  <a:pt x="11435" y="16892"/>
                </a:cubicBezTo>
                <a:cubicBezTo>
                  <a:pt x="11443" y="16892"/>
                  <a:pt x="11452" y="16892"/>
                  <a:pt x="11460" y="16892"/>
                </a:cubicBezTo>
              </a:path>
              <a:path w="7591" h="14041">
                <a:moveTo>
                  <a:pt x="11187" y="17859"/>
                </a:moveTo>
                <a:cubicBezTo>
                  <a:pt x="11216" y="17808"/>
                  <a:pt x="11247" y="17761"/>
                  <a:pt x="11261" y="17711"/>
                </a:cubicBezTo>
                <a:cubicBezTo>
                  <a:pt x="11262" y="17707"/>
                  <a:pt x="11139" y="17935"/>
                  <a:pt x="11137" y="18033"/>
                </a:cubicBezTo>
                <a:cubicBezTo>
                  <a:pt x="11145" y="18066"/>
                  <a:pt x="11154" y="18099"/>
                  <a:pt x="11162" y="18132"/>
                </a:cubicBezTo>
                <a:cubicBezTo>
                  <a:pt x="11333" y="18115"/>
                  <a:pt x="11395" y="18065"/>
                  <a:pt x="11435" y="17884"/>
                </a:cubicBezTo>
                <a:cubicBezTo>
                  <a:pt x="11477" y="17692"/>
                  <a:pt x="11376" y="17823"/>
                  <a:pt x="11336" y="17735"/>
                </a:cubicBezTo>
                <a:cubicBezTo>
                  <a:pt x="11336" y="17719"/>
                  <a:pt x="11336" y="17702"/>
                  <a:pt x="11336" y="17686"/>
                </a:cubicBezTo>
              </a:path>
              <a:path w="7591" h="14041">
                <a:moveTo>
                  <a:pt x="11063" y="13494"/>
                </a:moveTo>
                <a:cubicBezTo>
                  <a:pt x="11044" y="13437"/>
                  <a:pt x="10967" y="13506"/>
                  <a:pt x="10914" y="13519"/>
                </a:cubicBezTo>
                <a:cubicBezTo>
                  <a:pt x="10854" y="13534"/>
                  <a:pt x="10879" y="13508"/>
                  <a:pt x="10864" y="13568"/>
                </a:cubicBezTo>
                <a:cubicBezTo>
                  <a:pt x="10845" y="13644"/>
                  <a:pt x="10818" y="13703"/>
                  <a:pt x="10864" y="13767"/>
                </a:cubicBezTo>
                <a:cubicBezTo>
                  <a:pt x="10959" y="13714"/>
                  <a:pt x="11025" y="13642"/>
                  <a:pt x="11137" y="13692"/>
                </a:cubicBezTo>
                <a:cubicBezTo>
                  <a:pt x="11283" y="13757"/>
                  <a:pt x="11294" y="13919"/>
                  <a:pt x="11212" y="14039"/>
                </a:cubicBezTo>
                <a:cubicBezTo>
                  <a:pt x="11124" y="14169"/>
                  <a:pt x="11050" y="14088"/>
                  <a:pt x="10939" y="14039"/>
                </a:cubicBezTo>
              </a:path>
              <a:path w="7591" h="14041">
                <a:moveTo>
                  <a:pt x="10815" y="18306"/>
                </a:moveTo>
                <a:cubicBezTo>
                  <a:pt x="10815" y="18347"/>
                  <a:pt x="10815" y="18389"/>
                  <a:pt x="10815" y="18430"/>
                </a:cubicBezTo>
                <a:cubicBezTo>
                  <a:pt x="10928" y="18423"/>
                  <a:pt x="11031" y="18442"/>
                  <a:pt x="11063" y="18331"/>
                </a:cubicBezTo>
              </a:path>
              <a:path w="7591" h="14041">
                <a:moveTo>
                  <a:pt x="11013" y="18207"/>
                </a:moveTo>
                <a:cubicBezTo>
                  <a:pt x="11022" y="18252"/>
                  <a:pt x="11056" y="18593"/>
                  <a:pt x="11088" y="18604"/>
                </a:cubicBezTo>
                <a:cubicBezTo>
                  <a:pt x="11096" y="18596"/>
                  <a:pt x="11104" y="18587"/>
                  <a:pt x="11112" y="18579"/>
                </a:cubicBezTo>
              </a:path>
              <a:path w="7591" h="14041">
                <a:moveTo>
                  <a:pt x="11385" y="18207"/>
                </a:moveTo>
                <a:cubicBezTo>
                  <a:pt x="11277" y="18295"/>
                  <a:pt x="11313" y="18398"/>
                  <a:pt x="11336" y="18529"/>
                </a:cubicBezTo>
                <a:cubicBezTo>
                  <a:pt x="11378" y="18517"/>
                  <a:pt x="11594" y="18435"/>
                  <a:pt x="11485" y="18355"/>
                </a:cubicBezTo>
                <a:cubicBezTo>
                  <a:pt x="11385" y="18323"/>
                  <a:pt x="11335" y="18323"/>
                  <a:pt x="11261" y="18380"/>
                </a:cubicBezTo>
              </a:path>
              <a:path w="7591" h="14041">
                <a:moveTo>
                  <a:pt x="10666" y="18703"/>
                </a:moveTo>
                <a:cubicBezTo>
                  <a:pt x="11037" y="18600"/>
                  <a:pt x="11409" y="18521"/>
                  <a:pt x="11782" y="18430"/>
                </a:cubicBezTo>
                <a:cubicBezTo>
                  <a:pt x="11807" y="18422"/>
                  <a:pt x="11832" y="18413"/>
                  <a:pt x="11857" y="18405"/>
                </a:cubicBezTo>
              </a:path>
              <a:path w="7591" h="14041">
                <a:moveTo>
                  <a:pt x="11261" y="18256"/>
                </a:moveTo>
                <a:cubicBezTo>
                  <a:pt x="11261" y="18248"/>
                  <a:pt x="11261" y="18239"/>
                  <a:pt x="11261" y="18231"/>
                </a:cubicBezTo>
                <a:cubicBezTo>
                  <a:pt x="11196" y="18248"/>
                  <a:pt x="11197" y="18299"/>
                  <a:pt x="11237" y="18355"/>
                </a:cubicBezTo>
                <a:cubicBezTo>
                  <a:pt x="11285" y="18421"/>
                  <a:pt x="11421" y="18423"/>
                  <a:pt x="11485" y="18380"/>
                </a:cubicBezTo>
                <a:cubicBezTo>
                  <a:pt x="11544" y="18341"/>
                  <a:pt x="11505" y="18215"/>
                  <a:pt x="11460" y="18182"/>
                </a:cubicBezTo>
                <a:cubicBezTo>
                  <a:pt x="11417" y="18151"/>
                  <a:pt x="11311" y="18200"/>
                  <a:pt x="11311" y="18256"/>
                </a:cubicBezTo>
                <a:cubicBezTo>
                  <a:pt x="11319" y="18256"/>
                  <a:pt x="11328" y="18256"/>
                  <a:pt x="11336" y="18256"/>
                </a:cubicBezTo>
              </a:path>
              <a:path w="7591" h="14041">
                <a:moveTo>
                  <a:pt x="11708" y="18579"/>
                </a:moveTo>
                <a:cubicBezTo>
                  <a:pt x="11592" y="18594"/>
                  <a:pt x="11515" y="18674"/>
                  <a:pt x="11509" y="18802"/>
                </a:cubicBezTo>
                <a:cubicBezTo>
                  <a:pt x="11517" y="18810"/>
                  <a:pt x="11526" y="18819"/>
                  <a:pt x="11534" y="18827"/>
                </a:cubicBezTo>
                <a:cubicBezTo>
                  <a:pt x="11670" y="18802"/>
                  <a:pt x="11775" y="18768"/>
                  <a:pt x="11857" y="18653"/>
                </a:cubicBezTo>
                <a:cubicBezTo>
                  <a:pt x="11865" y="18637"/>
                  <a:pt x="11873" y="18620"/>
                  <a:pt x="11881" y="18604"/>
                </a:cubicBezTo>
                <a:cubicBezTo>
                  <a:pt x="11821" y="18554"/>
                  <a:pt x="11788" y="18554"/>
                  <a:pt x="11708" y="18554"/>
                </a:cubicBezTo>
                <a:cubicBezTo>
                  <a:pt x="11700" y="18554"/>
                  <a:pt x="11691" y="18554"/>
                  <a:pt x="11683" y="18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8760" y="5724360"/>
            <a:ext cx="1250640" cy="677880"/>
          </a:xfrm>
          <a:custGeom>
            <a:avLst/>
            <a:gdLst/>
            <a:ahLst/>
            <a:rect l="l" t="t" r="r" b="b"/>
            <a:pathLst>
              <a:path w="3474" h="1886">
                <a:moveTo>
                  <a:pt x="5085" y="16495"/>
                </a:moveTo>
                <a:cubicBezTo>
                  <a:pt x="5064" y="16662"/>
                  <a:pt x="5007" y="16786"/>
                  <a:pt x="4961" y="16942"/>
                </a:cubicBezTo>
                <a:cubicBezTo>
                  <a:pt x="4961" y="16958"/>
                  <a:pt x="4961" y="16975"/>
                  <a:pt x="4961" y="16991"/>
                </a:cubicBezTo>
                <a:cubicBezTo>
                  <a:pt x="5010" y="16894"/>
                  <a:pt x="5156" y="16897"/>
                  <a:pt x="5259" y="16892"/>
                </a:cubicBezTo>
                <a:cubicBezTo>
                  <a:pt x="5349" y="16887"/>
                  <a:pt x="5411" y="16919"/>
                  <a:pt x="5457" y="16942"/>
                </a:cubicBezTo>
                <a:cubicBezTo>
                  <a:pt x="5527" y="16977"/>
                  <a:pt x="5458" y="16816"/>
                  <a:pt x="5432" y="16743"/>
                </a:cubicBezTo>
              </a:path>
              <a:path w="3474" h="1886">
                <a:moveTo>
                  <a:pt x="5358" y="16346"/>
                </a:moveTo>
                <a:cubicBezTo>
                  <a:pt x="5373" y="16540"/>
                  <a:pt x="5387" y="16752"/>
                  <a:pt x="5432" y="16942"/>
                </a:cubicBezTo>
                <a:cubicBezTo>
                  <a:pt x="5461" y="17064"/>
                  <a:pt x="5482" y="17140"/>
                  <a:pt x="5482" y="17264"/>
                </a:cubicBezTo>
                <a:cubicBezTo>
                  <a:pt x="5482" y="17305"/>
                  <a:pt x="5482" y="17313"/>
                  <a:pt x="5482" y="17338"/>
                </a:cubicBezTo>
              </a:path>
              <a:path w="3474" h="1886">
                <a:moveTo>
                  <a:pt x="5829" y="17190"/>
                </a:moveTo>
                <a:cubicBezTo>
                  <a:pt x="5813" y="17142"/>
                  <a:pt x="5760" y="17161"/>
                  <a:pt x="5730" y="17214"/>
                </a:cubicBezTo>
                <a:cubicBezTo>
                  <a:pt x="5722" y="17239"/>
                  <a:pt x="5713" y="17264"/>
                  <a:pt x="5705" y="17289"/>
                </a:cubicBezTo>
                <a:cubicBezTo>
                  <a:pt x="5770" y="17274"/>
                  <a:pt x="5831" y="17257"/>
                  <a:pt x="5854" y="17190"/>
                </a:cubicBezTo>
                <a:cubicBezTo>
                  <a:pt x="5868" y="17148"/>
                  <a:pt x="5775" y="17143"/>
                  <a:pt x="5755" y="17165"/>
                </a:cubicBezTo>
                <a:cubicBezTo>
                  <a:pt x="5733" y="17208"/>
                  <a:pt x="5720" y="17220"/>
                  <a:pt x="5755" y="17239"/>
                </a:cubicBezTo>
                <a:cubicBezTo>
                  <a:pt x="5781" y="17213"/>
                  <a:pt x="5861" y="17069"/>
                  <a:pt x="5779" y="17165"/>
                </a:cubicBezTo>
                <a:cubicBezTo>
                  <a:pt x="5756" y="17192"/>
                  <a:pt x="5779" y="17151"/>
                  <a:pt x="5779" y="17190"/>
                </a:cubicBezTo>
              </a:path>
              <a:path w="3474" h="1886">
                <a:moveTo>
                  <a:pt x="6127" y="16545"/>
                </a:moveTo>
                <a:cubicBezTo>
                  <a:pt x="6127" y="16573"/>
                  <a:pt x="6125" y="16584"/>
                  <a:pt x="6102" y="16594"/>
                </a:cubicBezTo>
                <a:cubicBezTo>
                  <a:pt x="6165" y="16517"/>
                  <a:pt x="6219" y="16469"/>
                  <a:pt x="6325" y="16446"/>
                </a:cubicBezTo>
                <a:cubicBezTo>
                  <a:pt x="6424" y="16425"/>
                  <a:pt x="6414" y="16577"/>
                  <a:pt x="6400" y="16644"/>
                </a:cubicBezTo>
                <a:cubicBezTo>
                  <a:pt x="6386" y="16707"/>
                  <a:pt x="6267" y="16797"/>
                  <a:pt x="6325" y="16768"/>
                </a:cubicBezTo>
                <a:cubicBezTo>
                  <a:pt x="6437" y="16712"/>
                  <a:pt x="6545" y="16810"/>
                  <a:pt x="6548" y="16917"/>
                </a:cubicBezTo>
                <a:cubicBezTo>
                  <a:pt x="6554" y="17108"/>
                  <a:pt x="6322" y="17174"/>
                  <a:pt x="6176" y="17165"/>
                </a:cubicBezTo>
                <a:cubicBezTo>
                  <a:pt x="6160" y="17157"/>
                  <a:pt x="6143" y="17148"/>
                  <a:pt x="6127" y="17140"/>
                </a:cubicBezTo>
                <a:cubicBezTo>
                  <a:pt x="6177" y="17140"/>
                  <a:pt x="6249" y="17192"/>
                  <a:pt x="6276" y="17190"/>
                </a:cubicBezTo>
                <a:cubicBezTo>
                  <a:pt x="6332" y="17161"/>
                  <a:pt x="6351" y="17145"/>
                  <a:pt x="6350" y="17090"/>
                </a:cubicBezTo>
              </a:path>
              <a:path w="3474" h="1886">
                <a:moveTo>
                  <a:pt x="6474" y="16545"/>
                </a:moveTo>
                <a:cubicBezTo>
                  <a:pt x="6482" y="16561"/>
                  <a:pt x="6491" y="16578"/>
                  <a:pt x="6499" y="16594"/>
                </a:cubicBezTo>
                <a:cubicBezTo>
                  <a:pt x="6559" y="16575"/>
                  <a:pt x="6482" y="16531"/>
                  <a:pt x="6548" y="16495"/>
                </a:cubicBezTo>
                <a:cubicBezTo>
                  <a:pt x="6590" y="16472"/>
                  <a:pt x="6778" y="16427"/>
                  <a:pt x="6821" y="16446"/>
                </a:cubicBezTo>
                <a:cubicBezTo>
                  <a:pt x="6947" y="16502"/>
                  <a:pt x="6851" y="16825"/>
                  <a:pt x="6846" y="16917"/>
                </a:cubicBezTo>
                <a:cubicBezTo>
                  <a:pt x="6841" y="17014"/>
                  <a:pt x="6816" y="17109"/>
                  <a:pt x="6871" y="17090"/>
                </a:cubicBezTo>
              </a:path>
              <a:path w="3474" h="1886">
                <a:moveTo>
                  <a:pt x="7342" y="16421"/>
                </a:moveTo>
                <a:cubicBezTo>
                  <a:pt x="7301" y="16429"/>
                  <a:pt x="7164" y="16445"/>
                  <a:pt x="7144" y="16470"/>
                </a:cubicBezTo>
                <a:cubicBezTo>
                  <a:pt x="7097" y="16530"/>
                  <a:pt x="7119" y="16671"/>
                  <a:pt x="7119" y="16743"/>
                </a:cubicBezTo>
                <a:cubicBezTo>
                  <a:pt x="7198" y="16743"/>
                  <a:pt x="7238" y="16669"/>
                  <a:pt x="7317" y="16669"/>
                </a:cubicBezTo>
                <a:cubicBezTo>
                  <a:pt x="7504" y="16669"/>
                  <a:pt x="7564" y="16879"/>
                  <a:pt x="7466" y="17016"/>
                </a:cubicBezTo>
                <a:cubicBezTo>
                  <a:pt x="7384" y="17130"/>
                  <a:pt x="7255" y="17124"/>
                  <a:pt x="7144" y="17090"/>
                </a:cubicBezTo>
              </a:path>
              <a:path w="3474" h="1886">
                <a:moveTo>
                  <a:pt x="4936" y="17785"/>
                </a:moveTo>
                <a:cubicBezTo>
                  <a:pt x="5146" y="17672"/>
                  <a:pt x="5320" y="17729"/>
                  <a:pt x="5556" y="17735"/>
                </a:cubicBezTo>
                <a:cubicBezTo>
                  <a:pt x="6045" y="17748"/>
                  <a:pt x="6532" y="17728"/>
                  <a:pt x="7020" y="17686"/>
                </a:cubicBezTo>
                <a:cubicBezTo>
                  <a:pt x="7236" y="17667"/>
                  <a:pt x="7498" y="17613"/>
                  <a:pt x="7714" y="17636"/>
                </a:cubicBezTo>
                <a:cubicBezTo>
                  <a:pt x="7768" y="17642"/>
                  <a:pt x="7893" y="17681"/>
                  <a:pt x="7913" y="17686"/>
                </a:cubicBezTo>
                <a:cubicBezTo>
                  <a:pt x="7913" y="17442"/>
                  <a:pt x="7875" y="17209"/>
                  <a:pt x="7863" y="16966"/>
                </a:cubicBezTo>
                <a:cubicBezTo>
                  <a:pt x="7850" y="16718"/>
                  <a:pt x="7888" y="16471"/>
                  <a:pt x="7888" y="16222"/>
                </a:cubicBezTo>
                <a:cubicBezTo>
                  <a:pt x="7888" y="16114"/>
                  <a:pt x="7873" y="16017"/>
                  <a:pt x="7863" y="15925"/>
                </a:cubicBezTo>
                <a:cubicBezTo>
                  <a:pt x="7863" y="15917"/>
                  <a:pt x="7863" y="15908"/>
                  <a:pt x="7863" y="15900"/>
                </a:cubicBezTo>
                <a:cubicBezTo>
                  <a:pt x="7601" y="15983"/>
                  <a:pt x="7371" y="15999"/>
                  <a:pt x="7094" y="15999"/>
                </a:cubicBezTo>
                <a:cubicBezTo>
                  <a:pt x="6279" y="15999"/>
                  <a:pt x="5447" y="15960"/>
                  <a:pt x="4638" y="16024"/>
                </a:cubicBezTo>
                <a:cubicBezTo>
                  <a:pt x="4562" y="16030"/>
                  <a:pt x="4505" y="16035"/>
                  <a:pt x="4440" y="16049"/>
                </a:cubicBezTo>
                <a:cubicBezTo>
                  <a:pt x="4499" y="16307"/>
                  <a:pt x="4535" y="16554"/>
                  <a:pt x="4564" y="16818"/>
                </a:cubicBezTo>
                <a:cubicBezTo>
                  <a:pt x="4583" y="16996"/>
                  <a:pt x="4624" y="17190"/>
                  <a:pt x="4638" y="17363"/>
                </a:cubicBezTo>
                <a:cubicBezTo>
                  <a:pt x="4645" y="17450"/>
                  <a:pt x="4630" y="17530"/>
                  <a:pt x="4614" y="17611"/>
                </a:cubicBezTo>
                <a:cubicBezTo>
                  <a:pt x="4606" y="17653"/>
                  <a:pt x="4595" y="17694"/>
                  <a:pt x="4589" y="17735"/>
                </a:cubicBezTo>
                <a:cubicBezTo>
                  <a:pt x="4589" y="17760"/>
                  <a:pt x="4589" y="17768"/>
                  <a:pt x="4589" y="17785"/>
                </a:cubicBezTo>
                <a:cubicBezTo>
                  <a:pt x="4691" y="17776"/>
                  <a:pt x="4787" y="17743"/>
                  <a:pt x="4887" y="17735"/>
                </a:cubicBezTo>
                <a:cubicBezTo>
                  <a:pt x="5038" y="17722"/>
                  <a:pt x="5211" y="17722"/>
                  <a:pt x="5358" y="17760"/>
                </a:cubicBezTo>
                <a:cubicBezTo>
                  <a:pt x="5368" y="17763"/>
                  <a:pt x="5470" y="17800"/>
                  <a:pt x="5482" y="17785"/>
                </a:cubicBezTo>
                <a:cubicBezTo>
                  <a:pt x="5465" y="17768"/>
                  <a:pt x="5449" y="17752"/>
                  <a:pt x="5432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13200" y="5037120"/>
            <a:ext cx="17964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13667" y="13990"/>
                </a:moveTo>
                <a:cubicBezTo>
                  <a:pt x="13542" y="14021"/>
                  <a:pt x="13370" y="14101"/>
                  <a:pt x="13370" y="14263"/>
                </a:cubicBezTo>
                <a:cubicBezTo>
                  <a:pt x="13386" y="14279"/>
                  <a:pt x="13403" y="14296"/>
                  <a:pt x="13419" y="14312"/>
                </a:cubicBezTo>
                <a:cubicBezTo>
                  <a:pt x="13528" y="14232"/>
                  <a:pt x="13601" y="14165"/>
                  <a:pt x="13692" y="14064"/>
                </a:cubicBezTo>
                <a:cubicBezTo>
                  <a:pt x="13758" y="14236"/>
                  <a:pt x="13797" y="14415"/>
                  <a:pt x="13866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50000" y="1527120"/>
            <a:ext cx="1581120" cy="36720"/>
          </a:xfrm>
          <a:custGeom>
            <a:avLst/>
            <a:gdLst/>
            <a:ahLst/>
            <a:rect l="l" t="t" r="r" b="b"/>
            <a:pathLst>
              <a:path w="4392" h="100">
                <a:moveTo>
                  <a:pt x="18752" y="4242"/>
                </a:moveTo>
                <a:cubicBezTo>
                  <a:pt x="18929" y="4274"/>
                  <a:pt x="19118" y="4287"/>
                  <a:pt x="19298" y="4291"/>
                </a:cubicBezTo>
                <a:cubicBezTo>
                  <a:pt x="19556" y="4297"/>
                  <a:pt x="19814" y="4296"/>
                  <a:pt x="20067" y="4316"/>
                </a:cubicBezTo>
                <a:cubicBezTo>
                  <a:pt x="20223" y="4328"/>
                  <a:pt x="20384" y="4330"/>
                  <a:pt x="20538" y="4341"/>
                </a:cubicBezTo>
                <a:cubicBezTo>
                  <a:pt x="20842" y="4363"/>
                  <a:pt x="21155" y="4336"/>
                  <a:pt x="21456" y="4316"/>
                </a:cubicBezTo>
                <a:cubicBezTo>
                  <a:pt x="21876" y="4288"/>
                  <a:pt x="22305" y="4325"/>
                  <a:pt x="22721" y="4291"/>
                </a:cubicBezTo>
                <a:cubicBezTo>
                  <a:pt x="22860" y="4280"/>
                  <a:pt x="23003" y="4291"/>
                  <a:pt x="23143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520" y="3962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decimal as a fraction read it aloud and write it as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  .63 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.9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2.04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68520" y="1095480"/>
                <a:ext cx="571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232680" y="1347840"/>
            <a:ext cx="45720" cy="12528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17438" y="3746"/>
                </a:moveTo>
                <a:cubicBezTo>
                  <a:pt x="17397" y="3862"/>
                  <a:pt x="17351" y="3982"/>
                  <a:pt x="17314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73280" y="1598760"/>
            <a:ext cx="1063800" cy="133200"/>
          </a:xfrm>
          <a:custGeom>
            <a:avLst/>
            <a:gdLst/>
            <a:ahLst/>
            <a:rect l="l" t="t" r="r" b="b"/>
            <a:pathLst>
              <a:path w="2953" h="373">
                <a:moveTo>
                  <a:pt x="9674" y="4589"/>
                </a:moveTo>
                <a:cubicBezTo>
                  <a:pt x="9681" y="4616"/>
                  <a:pt x="9689" y="4695"/>
                  <a:pt x="9798" y="4713"/>
                </a:cubicBezTo>
                <a:cubicBezTo>
                  <a:pt x="9923" y="4733"/>
                  <a:pt x="9983" y="4608"/>
                  <a:pt x="10071" y="4614"/>
                </a:cubicBezTo>
                <a:cubicBezTo>
                  <a:pt x="10148" y="4619"/>
                  <a:pt x="10232" y="4739"/>
                  <a:pt x="10319" y="4762"/>
                </a:cubicBezTo>
                <a:cubicBezTo>
                  <a:pt x="10424" y="4790"/>
                  <a:pt x="10474" y="4720"/>
                  <a:pt x="10542" y="4663"/>
                </a:cubicBezTo>
                <a:cubicBezTo>
                  <a:pt x="10607" y="4715"/>
                  <a:pt x="10704" y="4806"/>
                  <a:pt x="10790" y="4812"/>
                </a:cubicBezTo>
                <a:cubicBezTo>
                  <a:pt x="11019" y="4829"/>
                  <a:pt x="11166" y="4657"/>
                  <a:pt x="11361" y="4589"/>
                </a:cubicBezTo>
                <a:cubicBezTo>
                  <a:pt x="11436" y="4563"/>
                  <a:pt x="11430" y="4618"/>
                  <a:pt x="11509" y="4638"/>
                </a:cubicBezTo>
                <a:cubicBezTo>
                  <a:pt x="11623" y="4668"/>
                  <a:pt x="11707" y="4537"/>
                  <a:pt x="11807" y="4514"/>
                </a:cubicBezTo>
                <a:cubicBezTo>
                  <a:pt x="11923" y="4487"/>
                  <a:pt x="12055" y="4554"/>
                  <a:pt x="12179" y="4539"/>
                </a:cubicBezTo>
                <a:cubicBezTo>
                  <a:pt x="12321" y="4522"/>
                  <a:pt x="12462" y="4469"/>
                  <a:pt x="12601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9720" y="1108080"/>
            <a:ext cx="1009440" cy="660240"/>
          </a:xfrm>
          <a:custGeom>
            <a:avLst/>
            <a:gdLst/>
            <a:ahLst/>
            <a:rect l="l" t="t" r="r" b="b"/>
            <a:pathLst>
              <a:path w="2804" h="1836">
                <a:moveTo>
                  <a:pt x="16024" y="3175"/>
                </a:moveTo>
                <a:cubicBezTo>
                  <a:pt x="16098" y="3101"/>
                  <a:pt x="16326" y="3023"/>
                  <a:pt x="16446" y="3101"/>
                </a:cubicBezTo>
                <a:cubicBezTo>
                  <a:pt x="16462" y="3134"/>
                  <a:pt x="16479" y="3167"/>
                  <a:pt x="16495" y="3200"/>
                </a:cubicBezTo>
                <a:cubicBezTo>
                  <a:pt x="16411" y="3327"/>
                  <a:pt x="16043" y="3503"/>
                  <a:pt x="16173" y="3423"/>
                </a:cubicBezTo>
                <a:cubicBezTo>
                  <a:pt x="16198" y="3415"/>
                  <a:pt x="16222" y="3406"/>
                  <a:pt x="16247" y="3398"/>
                </a:cubicBezTo>
                <a:cubicBezTo>
                  <a:pt x="16447" y="3431"/>
                  <a:pt x="16471" y="3421"/>
                  <a:pt x="16570" y="3597"/>
                </a:cubicBezTo>
                <a:cubicBezTo>
                  <a:pt x="16425" y="3770"/>
                  <a:pt x="16317" y="3852"/>
                  <a:pt x="16073" y="3770"/>
                </a:cubicBezTo>
                <a:cubicBezTo>
                  <a:pt x="16090" y="3770"/>
                  <a:pt x="16106" y="3770"/>
                  <a:pt x="16123" y="3770"/>
                </a:cubicBezTo>
              </a:path>
              <a:path w="2804" h="1836">
                <a:moveTo>
                  <a:pt x="15751" y="3994"/>
                </a:moveTo>
                <a:cubicBezTo>
                  <a:pt x="16084" y="3924"/>
                  <a:pt x="16453" y="3833"/>
                  <a:pt x="16793" y="3820"/>
                </a:cubicBezTo>
                <a:cubicBezTo>
                  <a:pt x="16847" y="3818"/>
                  <a:pt x="16990" y="3843"/>
                  <a:pt x="17016" y="3870"/>
                </a:cubicBezTo>
              </a:path>
              <a:path w="2804" h="1836">
                <a:moveTo>
                  <a:pt x="15875" y="4167"/>
                </a:moveTo>
                <a:cubicBezTo>
                  <a:pt x="16120" y="4148"/>
                  <a:pt x="16150" y="4155"/>
                  <a:pt x="16346" y="4291"/>
                </a:cubicBezTo>
                <a:cubicBezTo>
                  <a:pt x="16289" y="4620"/>
                  <a:pt x="16125" y="4845"/>
                  <a:pt x="15751" y="4911"/>
                </a:cubicBezTo>
                <a:cubicBezTo>
                  <a:pt x="15583" y="4888"/>
                  <a:pt x="15527" y="4886"/>
                  <a:pt x="15528" y="4738"/>
                </a:cubicBezTo>
                <a:cubicBezTo>
                  <a:pt x="15729" y="4592"/>
                  <a:pt x="15903" y="4561"/>
                  <a:pt x="16123" y="4738"/>
                </a:cubicBezTo>
                <a:cubicBezTo>
                  <a:pt x="16221" y="4817"/>
                  <a:pt x="16165" y="4875"/>
                  <a:pt x="16222" y="4837"/>
                </a:cubicBezTo>
              </a:path>
              <a:path w="2804" h="1836">
                <a:moveTo>
                  <a:pt x="16892" y="4068"/>
                </a:moveTo>
                <a:cubicBezTo>
                  <a:pt x="16760" y="4112"/>
                  <a:pt x="16644" y="4137"/>
                  <a:pt x="16495" y="4142"/>
                </a:cubicBezTo>
                <a:cubicBezTo>
                  <a:pt x="16454" y="4143"/>
                  <a:pt x="16449" y="4334"/>
                  <a:pt x="16446" y="4366"/>
                </a:cubicBezTo>
                <a:cubicBezTo>
                  <a:pt x="16446" y="4424"/>
                  <a:pt x="16446" y="4432"/>
                  <a:pt x="16446" y="4465"/>
                </a:cubicBezTo>
                <a:cubicBezTo>
                  <a:pt x="16557" y="4423"/>
                  <a:pt x="16721" y="4352"/>
                  <a:pt x="16842" y="4366"/>
                </a:cubicBezTo>
                <a:cubicBezTo>
                  <a:pt x="17159" y="4402"/>
                  <a:pt x="16825" y="4760"/>
                  <a:pt x="16718" y="4812"/>
                </a:cubicBezTo>
                <a:cubicBezTo>
                  <a:pt x="16596" y="4833"/>
                  <a:pt x="16565" y="4860"/>
                  <a:pt x="16520" y="4787"/>
                </a:cubicBezTo>
              </a:path>
              <a:path w="2804" h="1836">
                <a:moveTo>
                  <a:pt x="17289" y="3870"/>
                </a:moveTo>
                <a:cubicBezTo>
                  <a:pt x="17289" y="3828"/>
                  <a:pt x="17383" y="4028"/>
                  <a:pt x="17413" y="4068"/>
                </a:cubicBezTo>
                <a:cubicBezTo>
                  <a:pt x="17421" y="4076"/>
                  <a:pt x="17430" y="4085"/>
                  <a:pt x="17438" y="4093"/>
                </a:cubicBezTo>
              </a:path>
              <a:path w="2804" h="1836">
                <a:moveTo>
                  <a:pt x="17959" y="4093"/>
                </a:moveTo>
                <a:cubicBezTo>
                  <a:pt x="17959" y="4029"/>
                  <a:pt x="17914" y="4219"/>
                  <a:pt x="17909" y="4242"/>
                </a:cubicBezTo>
                <a:cubicBezTo>
                  <a:pt x="17889" y="4326"/>
                  <a:pt x="18179" y="4204"/>
                  <a:pt x="18207" y="4192"/>
                </a:cubicBezTo>
              </a:path>
              <a:path w="2804" h="1836">
                <a:moveTo>
                  <a:pt x="18107" y="3944"/>
                </a:moveTo>
                <a:cubicBezTo>
                  <a:pt x="18107" y="4119"/>
                  <a:pt x="18128" y="4290"/>
                  <a:pt x="18132" y="4465"/>
                </a:cubicBezTo>
                <a:cubicBezTo>
                  <a:pt x="18133" y="4506"/>
                  <a:pt x="18132" y="4580"/>
                  <a:pt x="18132" y="4539"/>
                </a:cubicBezTo>
              </a:path>
              <a:path w="2804" h="1836">
                <a:moveTo>
                  <a:pt x="17711" y="3944"/>
                </a:moveTo>
                <a:cubicBezTo>
                  <a:pt x="17900" y="3920"/>
                  <a:pt x="18089" y="3872"/>
                  <a:pt x="18281" y="3845"/>
                </a:cubicBezTo>
                <a:cubicBezTo>
                  <a:pt x="18306" y="3845"/>
                  <a:pt x="18314" y="3845"/>
                  <a:pt x="18331" y="3845"/>
                </a:cubicBezTo>
              </a:path>
              <a:path w="2804" h="1836">
                <a:moveTo>
                  <a:pt x="17859" y="3522"/>
                </a:moveTo>
                <a:cubicBezTo>
                  <a:pt x="17841" y="3572"/>
                  <a:pt x="17820" y="3621"/>
                  <a:pt x="17810" y="3671"/>
                </a:cubicBezTo>
                <a:cubicBezTo>
                  <a:pt x="17941" y="3652"/>
                  <a:pt x="18053" y="3631"/>
                  <a:pt x="18107" y="3522"/>
                </a:cubicBezTo>
              </a:path>
              <a:path w="2804" h="1836">
                <a:moveTo>
                  <a:pt x="17983" y="3225"/>
                </a:moveTo>
                <a:cubicBezTo>
                  <a:pt x="17983" y="3440"/>
                  <a:pt x="17967" y="3683"/>
                  <a:pt x="18008" y="3894"/>
                </a:cubicBezTo>
                <a:cubicBezTo>
                  <a:pt x="18033" y="3919"/>
                  <a:pt x="18041" y="3927"/>
                  <a:pt x="18008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00920" y="1027080"/>
            <a:ext cx="1758960" cy="679320"/>
          </a:xfrm>
          <a:custGeom>
            <a:avLst/>
            <a:gdLst/>
            <a:ahLst/>
            <a:rect l="l" t="t" r="r" b="b"/>
            <a:pathLst>
              <a:path w="4887" h="1886">
                <a:moveTo>
                  <a:pt x="19472" y="3795"/>
                </a:moveTo>
                <a:cubicBezTo>
                  <a:pt x="19464" y="3787"/>
                  <a:pt x="19455" y="3778"/>
                  <a:pt x="19447" y="3770"/>
                </a:cubicBezTo>
                <a:cubicBezTo>
                  <a:pt x="19525" y="3770"/>
                  <a:pt x="19593" y="3736"/>
                  <a:pt x="19670" y="3721"/>
                </a:cubicBezTo>
                <a:cubicBezTo>
                  <a:pt x="19695" y="3721"/>
                  <a:pt x="19703" y="3721"/>
                  <a:pt x="19720" y="3721"/>
                </a:cubicBezTo>
              </a:path>
              <a:path w="4887" h="1886">
                <a:moveTo>
                  <a:pt x="19472" y="3870"/>
                </a:moveTo>
                <a:cubicBezTo>
                  <a:pt x="19540" y="3883"/>
                  <a:pt x="19597" y="3894"/>
                  <a:pt x="19670" y="3894"/>
                </a:cubicBezTo>
                <a:cubicBezTo>
                  <a:pt x="19678" y="3894"/>
                  <a:pt x="19687" y="3894"/>
                  <a:pt x="19695" y="3894"/>
                </a:cubicBezTo>
              </a:path>
              <a:path w="4887" h="1886">
                <a:moveTo>
                  <a:pt x="20315" y="3994"/>
                </a:moveTo>
                <a:cubicBezTo>
                  <a:pt x="20315" y="4226"/>
                  <a:pt x="20315" y="4460"/>
                  <a:pt x="20265" y="4688"/>
                </a:cubicBezTo>
                <a:cubicBezTo>
                  <a:pt x="20244" y="4784"/>
                  <a:pt x="20251" y="4699"/>
                  <a:pt x="20290" y="4614"/>
                </a:cubicBezTo>
              </a:path>
              <a:path w="4887" h="1886">
                <a:moveTo>
                  <a:pt x="20737" y="4118"/>
                </a:moveTo>
                <a:cubicBezTo>
                  <a:pt x="20624" y="4162"/>
                  <a:pt x="20536" y="4394"/>
                  <a:pt x="20538" y="4514"/>
                </a:cubicBezTo>
                <a:cubicBezTo>
                  <a:pt x="20543" y="4802"/>
                  <a:pt x="20859" y="4780"/>
                  <a:pt x="20960" y="4564"/>
                </a:cubicBezTo>
                <a:cubicBezTo>
                  <a:pt x="21040" y="4393"/>
                  <a:pt x="21029" y="4100"/>
                  <a:pt x="20786" y="4118"/>
                </a:cubicBezTo>
                <a:cubicBezTo>
                  <a:pt x="20723" y="4149"/>
                  <a:pt x="20722" y="4153"/>
                  <a:pt x="20836" y="4118"/>
                </a:cubicBezTo>
              </a:path>
              <a:path w="4887" h="1886">
                <a:moveTo>
                  <a:pt x="21307" y="4068"/>
                </a:moveTo>
                <a:cubicBezTo>
                  <a:pt x="21181" y="4211"/>
                  <a:pt x="21173" y="4395"/>
                  <a:pt x="21158" y="4589"/>
                </a:cubicBezTo>
                <a:cubicBezTo>
                  <a:pt x="21367" y="4709"/>
                  <a:pt x="21575" y="4679"/>
                  <a:pt x="21630" y="4366"/>
                </a:cubicBezTo>
                <a:cubicBezTo>
                  <a:pt x="21662" y="4183"/>
                  <a:pt x="21473" y="4177"/>
                  <a:pt x="21357" y="4142"/>
                </a:cubicBezTo>
              </a:path>
              <a:path w="4887" h="1886">
                <a:moveTo>
                  <a:pt x="20166" y="3770"/>
                </a:moveTo>
                <a:cubicBezTo>
                  <a:pt x="20465" y="3770"/>
                  <a:pt x="20761" y="3785"/>
                  <a:pt x="21059" y="3795"/>
                </a:cubicBezTo>
                <a:cubicBezTo>
                  <a:pt x="21224" y="3800"/>
                  <a:pt x="21372" y="3793"/>
                  <a:pt x="21530" y="3820"/>
                </a:cubicBezTo>
              </a:path>
              <a:path w="4887" h="1886">
                <a:moveTo>
                  <a:pt x="20340" y="2952"/>
                </a:moveTo>
                <a:cubicBezTo>
                  <a:pt x="20426" y="3016"/>
                  <a:pt x="20496" y="3279"/>
                  <a:pt x="20538" y="3398"/>
                </a:cubicBezTo>
                <a:cubicBezTo>
                  <a:pt x="20550" y="3433"/>
                  <a:pt x="20563" y="3648"/>
                  <a:pt x="20588" y="3522"/>
                </a:cubicBezTo>
              </a:path>
              <a:path w="4887" h="1886">
                <a:moveTo>
                  <a:pt x="20737" y="2902"/>
                </a:moveTo>
                <a:cubicBezTo>
                  <a:pt x="20861" y="2877"/>
                  <a:pt x="20944" y="2803"/>
                  <a:pt x="21059" y="2927"/>
                </a:cubicBezTo>
                <a:cubicBezTo>
                  <a:pt x="21272" y="3157"/>
                  <a:pt x="21071" y="3440"/>
                  <a:pt x="20861" y="3572"/>
                </a:cubicBezTo>
                <a:cubicBezTo>
                  <a:pt x="20828" y="3580"/>
                  <a:pt x="20795" y="3589"/>
                  <a:pt x="20762" y="3597"/>
                </a:cubicBezTo>
                <a:cubicBezTo>
                  <a:pt x="20724" y="3535"/>
                  <a:pt x="20633" y="3377"/>
                  <a:pt x="20786" y="3349"/>
                </a:cubicBezTo>
                <a:cubicBezTo>
                  <a:pt x="20939" y="3321"/>
                  <a:pt x="21124" y="3389"/>
                  <a:pt x="21233" y="3497"/>
                </a:cubicBezTo>
                <a:cubicBezTo>
                  <a:pt x="21253" y="3537"/>
                  <a:pt x="21251" y="3554"/>
                  <a:pt x="21282" y="3547"/>
                </a:cubicBezTo>
              </a:path>
              <a:path w="4887" h="1886">
                <a:moveTo>
                  <a:pt x="21878" y="3845"/>
                </a:moveTo>
                <a:cubicBezTo>
                  <a:pt x="21964" y="3857"/>
                  <a:pt x="22039" y="3870"/>
                  <a:pt x="22126" y="3870"/>
                </a:cubicBezTo>
              </a:path>
              <a:path w="4887" h="1886">
                <a:moveTo>
                  <a:pt x="21927" y="4068"/>
                </a:moveTo>
                <a:cubicBezTo>
                  <a:pt x="22005" y="4081"/>
                  <a:pt x="22069" y="4093"/>
                  <a:pt x="22151" y="4093"/>
                </a:cubicBezTo>
              </a:path>
              <a:path w="4887" h="1886">
                <a:moveTo>
                  <a:pt x="22820" y="3845"/>
                </a:moveTo>
                <a:cubicBezTo>
                  <a:pt x="22788" y="3744"/>
                  <a:pt x="22624" y="4064"/>
                  <a:pt x="22622" y="4068"/>
                </a:cubicBezTo>
                <a:cubicBezTo>
                  <a:pt x="22559" y="4197"/>
                  <a:pt x="22420" y="4556"/>
                  <a:pt x="22671" y="4614"/>
                </a:cubicBezTo>
                <a:cubicBezTo>
                  <a:pt x="22867" y="4659"/>
                  <a:pt x="23020" y="4418"/>
                  <a:pt x="23044" y="4266"/>
                </a:cubicBezTo>
                <a:cubicBezTo>
                  <a:pt x="23077" y="4057"/>
                  <a:pt x="22987" y="3990"/>
                  <a:pt x="22845" y="3870"/>
                </a:cubicBezTo>
                <a:cubicBezTo>
                  <a:pt x="22817" y="3842"/>
                  <a:pt x="22804" y="3833"/>
                  <a:pt x="22771" y="3845"/>
                </a:cubicBezTo>
              </a:path>
              <a:path w="4887" h="1886">
                <a:moveTo>
                  <a:pt x="23292" y="4465"/>
                </a:moveTo>
                <a:cubicBezTo>
                  <a:pt x="23256" y="4474"/>
                  <a:pt x="23246" y="4486"/>
                  <a:pt x="23217" y="4514"/>
                </a:cubicBezTo>
                <a:cubicBezTo>
                  <a:pt x="23262" y="4544"/>
                  <a:pt x="23367" y="4482"/>
                  <a:pt x="23316" y="4465"/>
                </a:cubicBezTo>
                <a:cubicBezTo>
                  <a:pt x="23258" y="4465"/>
                  <a:pt x="23234" y="4449"/>
                  <a:pt x="23242" y="4490"/>
                </a:cubicBezTo>
              </a:path>
              <a:path w="4887" h="1886">
                <a:moveTo>
                  <a:pt x="23540" y="3870"/>
                </a:moveTo>
                <a:cubicBezTo>
                  <a:pt x="23540" y="3798"/>
                  <a:pt x="23613" y="4235"/>
                  <a:pt x="23614" y="4242"/>
                </a:cubicBezTo>
                <a:cubicBezTo>
                  <a:pt x="23638" y="4363"/>
                  <a:pt x="23645" y="4363"/>
                  <a:pt x="23664" y="4440"/>
                </a:cubicBezTo>
              </a:path>
              <a:path w="4887" h="1886">
                <a:moveTo>
                  <a:pt x="23812" y="3820"/>
                </a:moveTo>
                <a:cubicBezTo>
                  <a:pt x="23860" y="3804"/>
                  <a:pt x="23977" y="3733"/>
                  <a:pt x="24061" y="3770"/>
                </a:cubicBezTo>
                <a:cubicBezTo>
                  <a:pt x="24243" y="3850"/>
                  <a:pt x="24069" y="4159"/>
                  <a:pt x="24011" y="4266"/>
                </a:cubicBezTo>
                <a:cubicBezTo>
                  <a:pt x="23973" y="4336"/>
                  <a:pt x="23898" y="4371"/>
                  <a:pt x="23937" y="4390"/>
                </a:cubicBezTo>
                <a:cubicBezTo>
                  <a:pt x="24055" y="4379"/>
                  <a:pt x="24146" y="4356"/>
                  <a:pt x="24259" y="4366"/>
                </a:cubicBezTo>
                <a:cubicBezTo>
                  <a:pt x="24315" y="4371"/>
                  <a:pt x="24319" y="4348"/>
                  <a:pt x="24333" y="43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66920" y="4170240"/>
            <a:ext cx="606240" cy="61920"/>
          </a:xfrm>
          <a:custGeom>
            <a:avLst/>
            <a:gdLst/>
            <a:ahLst/>
            <a:rect l="l" t="t" r="r" b="b"/>
            <a:pathLst>
              <a:path w="1688" h="174">
                <a:moveTo>
                  <a:pt x="3795" y="11733"/>
                </a:moveTo>
                <a:cubicBezTo>
                  <a:pt x="3941" y="11670"/>
                  <a:pt x="4177" y="11708"/>
                  <a:pt x="4341" y="11708"/>
                </a:cubicBezTo>
                <a:cubicBezTo>
                  <a:pt x="4589" y="11708"/>
                  <a:pt x="4838" y="11775"/>
                  <a:pt x="5085" y="11757"/>
                </a:cubicBezTo>
                <a:cubicBezTo>
                  <a:pt x="5211" y="11748"/>
                  <a:pt x="5329" y="11733"/>
                  <a:pt x="5457" y="11733"/>
                </a:cubicBezTo>
                <a:cubicBezTo>
                  <a:pt x="5515" y="11733"/>
                  <a:pt x="5391" y="11733"/>
                  <a:pt x="5333" y="11733"/>
                </a:cubicBezTo>
                <a:cubicBezTo>
                  <a:pt x="5069" y="11708"/>
                  <a:pt x="4779" y="11655"/>
                  <a:pt x="4514" y="11658"/>
                </a:cubicBezTo>
                <a:cubicBezTo>
                  <a:pt x="4365" y="11660"/>
                  <a:pt x="4218" y="11683"/>
                  <a:pt x="4068" y="11683"/>
                </a:cubicBezTo>
                <a:cubicBezTo>
                  <a:pt x="4281" y="11676"/>
                  <a:pt x="4479" y="11627"/>
                  <a:pt x="4688" y="11609"/>
                </a:cubicBezTo>
                <a:cubicBezTo>
                  <a:pt x="4850" y="11595"/>
                  <a:pt x="5021" y="11609"/>
                  <a:pt x="5184" y="11609"/>
                </a:cubicBezTo>
                <a:cubicBezTo>
                  <a:pt x="5102" y="11657"/>
                  <a:pt x="5027" y="11605"/>
                  <a:pt x="4862" y="11609"/>
                </a:cubicBezTo>
                <a:cubicBezTo>
                  <a:pt x="4640" y="11614"/>
                  <a:pt x="4414" y="11646"/>
                  <a:pt x="4192" y="11658"/>
                </a:cubicBezTo>
                <a:cubicBezTo>
                  <a:pt x="4034" y="11667"/>
                  <a:pt x="4506" y="11631"/>
                  <a:pt x="4663" y="11609"/>
                </a:cubicBezTo>
                <a:cubicBezTo>
                  <a:pt x="4685" y="11606"/>
                  <a:pt x="5148" y="11609"/>
                  <a:pt x="5011" y="11609"/>
                </a:cubicBezTo>
                <a:cubicBezTo>
                  <a:pt x="4674" y="11609"/>
                  <a:pt x="4351" y="11633"/>
                  <a:pt x="4018" y="11658"/>
                </a:cubicBezTo>
              </a:path>
              <a:path w="1688" h="174">
                <a:moveTo>
                  <a:pt x="3994" y="11683"/>
                </a:moveTo>
                <a:cubicBezTo>
                  <a:pt x="3961" y="11683"/>
                  <a:pt x="3944" y="11683"/>
                  <a:pt x="3919" y="11683"/>
                </a:cubicBezTo>
                <a:cubicBezTo>
                  <a:pt x="3820" y="11683"/>
                  <a:pt x="4068" y="11683"/>
                  <a:pt x="4167" y="11683"/>
                </a:cubicBezTo>
                <a:cubicBezTo>
                  <a:pt x="4256" y="11683"/>
                  <a:pt x="4304" y="11659"/>
                  <a:pt x="4316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6200" y="5037120"/>
            <a:ext cx="233640" cy="349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3547" y="14039"/>
                </a:moveTo>
                <a:cubicBezTo>
                  <a:pt x="3674" y="14039"/>
                  <a:pt x="3789" y="14007"/>
                  <a:pt x="3919" y="14015"/>
                </a:cubicBezTo>
                <a:cubicBezTo>
                  <a:pt x="4035" y="14022"/>
                  <a:pt x="4234" y="14039"/>
                  <a:pt x="4118" y="14039"/>
                </a:cubicBezTo>
                <a:cubicBezTo>
                  <a:pt x="3929" y="14013"/>
                  <a:pt x="3729" y="13950"/>
                  <a:pt x="3547" y="14039"/>
                </a:cubicBezTo>
                <a:cubicBezTo>
                  <a:pt x="3390" y="14116"/>
                  <a:pt x="3893" y="14052"/>
                  <a:pt x="4068" y="14039"/>
                </a:cubicBezTo>
                <a:cubicBezTo>
                  <a:pt x="4127" y="14035"/>
                  <a:pt x="4051" y="14051"/>
                  <a:pt x="3994" y="14064"/>
                </a:cubicBezTo>
                <a:cubicBezTo>
                  <a:pt x="3923" y="14068"/>
                  <a:pt x="3565" y="14062"/>
                  <a:pt x="3572" y="14064"/>
                </a:cubicBezTo>
                <a:cubicBezTo>
                  <a:pt x="3782" y="14115"/>
                  <a:pt x="4071" y="13960"/>
                  <a:pt x="4018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4280" y="5823000"/>
            <a:ext cx="696960" cy="52200"/>
          </a:xfrm>
          <a:custGeom>
            <a:avLst/>
            <a:gdLst/>
            <a:ahLst/>
            <a:rect l="l" t="t" r="r" b="b"/>
            <a:pathLst>
              <a:path w="1936" h="149">
                <a:moveTo>
                  <a:pt x="3398" y="16197"/>
                </a:moveTo>
                <a:cubicBezTo>
                  <a:pt x="3454" y="16179"/>
                  <a:pt x="3464" y="16161"/>
                  <a:pt x="3522" y="16173"/>
                </a:cubicBezTo>
                <a:cubicBezTo>
                  <a:pt x="3586" y="16186"/>
                  <a:pt x="3654" y="16213"/>
                  <a:pt x="3721" y="16222"/>
                </a:cubicBezTo>
                <a:cubicBezTo>
                  <a:pt x="3786" y="16231"/>
                  <a:pt x="3858" y="16240"/>
                  <a:pt x="3919" y="16247"/>
                </a:cubicBezTo>
                <a:cubicBezTo>
                  <a:pt x="4045" y="16262"/>
                  <a:pt x="4169" y="16234"/>
                  <a:pt x="4291" y="16222"/>
                </a:cubicBezTo>
                <a:cubicBezTo>
                  <a:pt x="4406" y="16211"/>
                  <a:pt x="4520" y="16225"/>
                  <a:pt x="4638" y="16222"/>
                </a:cubicBezTo>
                <a:cubicBezTo>
                  <a:pt x="4741" y="16219"/>
                  <a:pt x="4834" y="16197"/>
                  <a:pt x="4936" y="16197"/>
                </a:cubicBezTo>
                <a:cubicBezTo>
                  <a:pt x="4979" y="16197"/>
                  <a:pt x="5149" y="16197"/>
                  <a:pt x="5110" y="16197"/>
                </a:cubicBezTo>
                <a:cubicBezTo>
                  <a:pt x="5004" y="16197"/>
                  <a:pt x="4914" y="16210"/>
                  <a:pt x="4812" y="16222"/>
                </a:cubicBezTo>
                <a:cubicBezTo>
                  <a:pt x="4577" y="16249"/>
                  <a:pt x="4328" y="16227"/>
                  <a:pt x="4093" y="16247"/>
                </a:cubicBezTo>
                <a:cubicBezTo>
                  <a:pt x="3991" y="16256"/>
                  <a:pt x="3894" y="16260"/>
                  <a:pt x="3795" y="16272"/>
                </a:cubicBezTo>
                <a:cubicBezTo>
                  <a:pt x="3734" y="16279"/>
                  <a:pt x="3702" y="16256"/>
                  <a:pt x="3646" y="16247"/>
                </a:cubicBezTo>
                <a:cubicBezTo>
                  <a:pt x="3622" y="16243"/>
                  <a:pt x="3596" y="16250"/>
                  <a:pt x="3572" y="16247"/>
                </a:cubicBezTo>
                <a:cubicBezTo>
                  <a:pt x="3694" y="16247"/>
                  <a:pt x="3823" y="16236"/>
                  <a:pt x="3944" y="16222"/>
                </a:cubicBezTo>
                <a:cubicBezTo>
                  <a:pt x="4152" y="16198"/>
                  <a:pt x="4354" y="16197"/>
                  <a:pt x="4564" y="16197"/>
                </a:cubicBezTo>
                <a:cubicBezTo>
                  <a:pt x="4796" y="16197"/>
                  <a:pt x="5027" y="16197"/>
                  <a:pt x="5259" y="16197"/>
                </a:cubicBezTo>
                <a:cubicBezTo>
                  <a:pt x="5265" y="16191"/>
                  <a:pt x="5337" y="16162"/>
                  <a:pt x="5283" y="16173"/>
                </a:cubicBezTo>
                <a:cubicBezTo>
                  <a:pt x="5086" y="16213"/>
                  <a:pt x="4864" y="16212"/>
                  <a:pt x="4663" y="16197"/>
                </a:cubicBezTo>
                <a:cubicBezTo>
                  <a:pt x="4495" y="16184"/>
                  <a:pt x="4336" y="16173"/>
                  <a:pt x="4167" y="16173"/>
                </a:cubicBezTo>
                <a:cubicBezTo>
                  <a:pt x="4086" y="16173"/>
                  <a:pt x="4021" y="16194"/>
                  <a:pt x="3944" y="16197"/>
                </a:cubicBezTo>
                <a:cubicBezTo>
                  <a:pt x="3821" y="16202"/>
                  <a:pt x="3696" y="16197"/>
                  <a:pt x="3572" y="16197"/>
                </a:cubicBezTo>
                <a:cubicBezTo>
                  <a:pt x="3481" y="16197"/>
                  <a:pt x="3655" y="16197"/>
                  <a:pt x="3746" y="16197"/>
                </a:cubicBezTo>
                <a:cubicBezTo>
                  <a:pt x="3972" y="16197"/>
                  <a:pt x="4192" y="16210"/>
                  <a:pt x="4415" y="16222"/>
                </a:cubicBezTo>
                <a:cubicBezTo>
                  <a:pt x="4589" y="16232"/>
                  <a:pt x="4764" y="16219"/>
                  <a:pt x="4936" y="16247"/>
                </a:cubicBezTo>
                <a:cubicBezTo>
                  <a:pt x="5009" y="16259"/>
                  <a:pt x="5083" y="16287"/>
                  <a:pt x="5159" y="16272"/>
                </a:cubicBezTo>
                <a:cubicBezTo>
                  <a:pt x="5205" y="16263"/>
                  <a:pt x="5330" y="16267"/>
                  <a:pt x="5283" y="16272"/>
                </a:cubicBezTo>
                <a:cubicBezTo>
                  <a:pt x="5234" y="16272"/>
                  <a:pt x="5200" y="16272"/>
                  <a:pt x="5159" y="16272"/>
                </a:cubicBezTo>
                <a:cubicBezTo>
                  <a:pt x="4898" y="16272"/>
                  <a:pt x="4649" y="16308"/>
                  <a:pt x="4390" y="16321"/>
                </a:cubicBezTo>
                <a:cubicBezTo>
                  <a:pt x="4205" y="16330"/>
                  <a:pt x="4029" y="16297"/>
                  <a:pt x="3845" y="16297"/>
                </a:cubicBezTo>
                <a:cubicBezTo>
                  <a:pt x="3828" y="16297"/>
                  <a:pt x="3812" y="16297"/>
                  <a:pt x="3795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4880" y="3490920"/>
            <a:ext cx="642960" cy="519120"/>
          </a:xfrm>
          <a:custGeom>
            <a:avLst/>
            <a:gdLst/>
            <a:ahLst/>
            <a:rect l="l" t="t" r="r" b="b"/>
            <a:pathLst>
              <a:path w="1787" h="1439">
                <a:moveTo>
                  <a:pt x="12402" y="9773"/>
                </a:moveTo>
                <a:cubicBezTo>
                  <a:pt x="12402" y="9739"/>
                  <a:pt x="12290" y="10018"/>
                  <a:pt x="12278" y="10046"/>
                </a:cubicBezTo>
                <a:cubicBezTo>
                  <a:pt x="12215" y="10193"/>
                  <a:pt x="12184" y="10223"/>
                  <a:pt x="12229" y="10319"/>
                </a:cubicBezTo>
                <a:cubicBezTo>
                  <a:pt x="12397" y="10328"/>
                  <a:pt x="12615" y="10324"/>
                  <a:pt x="12675" y="10120"/>
                </a:cubicBezTo>
                <a:cubicBezTo>
                  <a:pt x="12703" y="10026"/>
                  <a:pt x="12522" y="10174"/>
                  <a:pt x="12452" y="10244"/>
                </a:cubicBezTo>
                <a:cubicBezTo>
                  <a:pt x="12432" y="10366"/>
                  <a:pt x="12512" y="10257"/>
                  <a:pt x="12601" y="10195"/>
                </a:cubicBezTo>
              </a:path>
              <a:path w="1787" h="1439">
                <a:moveTo>
                  <a:pt x="12849" y="9798"/>
                </a:moveTo>
                <a:cubicBezTo>
                  <a:pt x="12885" y="9755"/>
                  <a:pt x="13066" y="9603"/>
                  <a:pt x="13122" y="9748"/>
                </a:cubicBezTo>
                <a:cubicBezTo>
                  <a:pt x="13172" y="9876"/>
                  <a:pt x="13043" y="9931"/>
                  <a:pt x="12948" y="9947"/>
                </a:cubicBezTo>
                <a:cubicBezTo>
                  <a:pt x="13027" y="9947"/>
                  <a:pt x="13247" y="9948"/>
                  <a:pt x="13221" y="10096"/>
                </a:cubicBezTo>
                <a:cubicBezTo>
                  <a:pt x="13195" y="10246"/>
                  <a:pt x="12895" y="10233"/>
                  <a:pt x="12799" y="10220"/>
                </a:cubicBezTo>
              </a:path>
              <a:path w="1787" h="1439">
                <a:moveTo>
                  <a:pt x="11708" y="10368"/>
                </a:moveTo>
                <a:cubicBezTo>
                  <a:pt x="12186" y="10326"/>
                  <a:pt x="12667" y="10286"/>
                  <a:pt x="13146" y="10269"/>
                </a:cubicBezTo>
                <a:cubicBezTo>
                  <a:pt x="13345" y="10269"/>
                  <a:pt x="13378" y="10269"/>
                  <a:pt x="13494" y="10269"/>
                </a:cubicBezTo>
              </a:path>
              <a:path w="1787" h="1439">
                <a:moveTo>
                  <a:pt x="12254" y="10542"/>
                </a:moveTo>
                <a:cubicBezTo>
                  <a:pt x="12198" y="10710"/>
                  <a:pt x="12115" y="10883"/>
                  <a:pt x="12080" y="11063"/>
                </a:cubicBezTo>
                <a:cubicBezTo>
                  <a:pt x="12041" y="11263"/>
                  <a:pt x="12241" y="11024"/>
                  <a:pt x="12254" y="11013"/>
                </a:cubicBezTo>
              </a:path>
              <a:path w="1787" h="1439">
                <a:moveTo>
                  <a:pt x="12675" y="10641"/>
                </a:moveTo>
                <a:cubicBezTo>
                  <a:pt x="12571" y="10765"/>
                  <a:pt x="12508" y="10860"/>
                  <a:pt x="12452" y="11013"/>
                </a:cubicBezTo>
                <a:cubicBezTo>
                  <a:pt x="12577" y="11049"/>
                  <a:pt x="12822" y="11011"/>
                  <a:pt x="12750" y="10790"/>
                </a:cubicBezTo>
                <a:cubicBezTo>
                  <a:pt x="12677" y="10717"/>
                  <a:pt x="12654" y="10693"/>
                  <a:pt x="12576" y="10716"/>
                </a:cubicBezTo>
              </a:path>
              <a:path w="1787" h="1439">
                <a:moveTo>
                  <a:pt x="13097" y="10616"/>
                </a:moveTo>
                <a:cubicBezTo>
                  <a:pt x="12976" y="10737"/>
                  <a:pt x="12964" y="10870"/>
                  <a:pt x="12973" y="11038"/>
                </a:cubicBezTo>
                <a:cubicBezTo>
                  <a:pt x="13105" y="11047"/>
                  <a:pt x="13402" y="10965"/>
                  <a:pt x="13271" y="10740"/>
                </a:cubicBezTo>
                <a:cubicBezTo>
                  <a:pt x="13145" y="10665"/>
                  <a:pt x="13101" y="10641"/>
                  <a:pt x="12998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06880" y="4572000"/>
            <a:ext cx="457200" cy="527040"/>
          </a:xfrm>
          <a:custGeom>
            <a:avLst/>
            <a:gdLst/>
            <a:ahLst/>
            <a:rect l="l" t="t" r="r" b="b"/>
            <a:pathLst>
              <a:path w="1266" h="1464">
                <a:moveTo>
                  <a:pt x="12129" y="12923"/>
                </a:moveTo>
                <a:cubicBezTo>
                  <a:pt x="12112" y="12797"/>
                  <a:pt x="12064" y="12685"/>
                  <a:pt x="11906" y="12700"/>
                </a:cubicBezTo>
                <a:cubicBezTo>
                  <a:pt x="11731" y="12717"/>
                  <a:pt x="11713" y="12845"/>
                  <a:pt x="11683" y="12973"/>
                </a:cubicBezTo>
                <a:cubicBezTo>
                  <a:pt x="11819" y="12973"/>
                  <a:pt x="11961" y="12706"/>
                  <a:pt x="12030" y="12824"/>
                </a:cubicBezTo>
                <a:cubicBezTo>
                  <a:pt x="12093" y="12932"/>
                  <a:pt x="12080" y="13126"/>
                  <a:pt x="12080" y="13246"/>
                </a:cubicBezTo>
                <a:cubicBezTo>
                  <a:pt x="12080" y="13254"/>
                  <a:pt x="12080" y="13263"/>
                  <a:pt x="12080" y="13271"/>
                </a:cubicBezTo>
              </a:path>
              <a:path w="1266" h="1464">
                <a:moveTo>
                  <a:pt x="11410" y="13469"/>
                </a:moveTo>
                <a:cubicBezTo>
                  <a:pt x="11759" y="13442"/>
                  <a:pt x="12105" y="13375"/>
                  <a:pt x="12452" y="13320"/>
                </a:cubicBezTo>
                <a:cubicBezTo>
                  <a:pt x="12584" y="13301"/>
                  <a:pt x="12600" y="13293"/>
                  <a:pt x="12675" y="13295"/>
                </a:cubicBezTo>
              </a:path>
              <a:path w="1266" h="1464">
                <a:moveTo>
                  <a:pt x="11584" y="13643"/>
                </a:moveTo>
                <a:cubicBezTo>
                  <a:pt x="11614" y="13787"/>
                  <a:pt x="11609" y="13937"/>
                  <a:pt x="11609" y="14089"/>
                </a:cubicBezTo>
                <a:cubicBezTo>
                  <a:pt x="11609" y="14214"/>
                  <a:pt x="11627" y="14161"/>
                  <a:pt x="11708" y="14089"/>
                </a:cubicBezTo>
              </a:path>
              <a:path w="1266" h="1464">
                <a:moveTo>
                  <a:pt x="12055" y="13742"/>
                </a:moveTo>
                <a:cubicBezTo>
                  <a:pt x="11958" y="13866"/>
                  <a:pt x="11947" y="13907"/>
                  <a:pt x="11931" y="14064"/>
                </a:cubicBezTo>
                <a:cubicBezTo>
                  <a:pt x="12139" y="14148"/>
                  <a:pt x="12216" y="14110"/>
                  <a:pt x="12353" y="13940"/>
                </a:cubicBezTo>
                <a:cubicBezTo>
                  <a:pt x="12282" y="13789"/>
                  <a:pt x="12229" y="13749"/>
                  <a:pt x="12055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80040" y="5295960"/>
            <a:ext cx="1909800" cy="625320"/>
          </a:xfrm>
          <a:custGeom>
            <a:avLst/>
            <a:gdLst/>
            <a:ahLst/>
            <a:rect l="l" t="t" r="r" b="b"/>
            <a:pathLst>
              <a:path w="5309" h="1738">
                <a:moveTo>
                  <a:pt x="14387" y="15032"/>
                </a:moveTo>
                <a:lnTo>
                  <a:pt x="14387" y="15032"/>
                </a:lnTo>
              </a:path>
              <a:path w="5309" h="1738">
                <a:moveTo>
                  <a:pt x="15032" y="14709"/>
                </a:moveTo>
                <a:lnTo>
                  <a:pt x="15032" y="14709"/>
                </a:lnTo>
                <a:lnTo>
                  <a:pt x="15032" y="14709"/>
                </a:lnTo>
              </a:path>
              <a:path w="5309" h="1738">
                <a:moveTo>
                  <a:pt x="15131" y="15131"/>
                </a:moveTo>
                <a:lnTo>
                  <a:pt x="15131" y="15131"/>
                </a:lnTo>
              </a:path>
              <a:path w="5309" h="1738">
                <a:moveTo>
                  <a:pt x="15304" y="15999"/>
                </a:moveTo>
                <a:cubicBezTo>
                  <a:pt x="15304" y="16027"/>
                  <a:pt x="15302" y="16038"/>
                  <a:pt x="15280" y="16049"/>
                </a:cubicBezTo>
              </a:path>
              <a:path w="5309" h="1738">
                <a:moveTo>
                  <a:pt x="15280" y="16421"/>
                </a:moveTo>
                <a:cubicBezTo>
                  <a:pt x="15280" y="16429"/>
                  <a:pt x="15280" y="16438"/>
                  <a:pt x="15280" y="16446"/>
                </a:cubicBezTo>
              </a:path>
              <a:path w="5309" h="1738">
                <a:moveTo>
                  <a:pt x="15925" y="15677"/>
                </a:moveTo>
                <a:cubicBezTo>
                  <a:pt x="16006" y="15650"/>
                  <a:pt x="16037" y="15641"/>
                  <a:pt x="16098" y="15652"/>
                </a:cubicBezTo>
              </a:path>
              <a:path w="5309" h="1738">
                <a:moveTo>
                  <a:pt x="15925" y="15850"/>
                </a:moveTo>
                <a:cubicBezTo>
                  <a:pt x="16032" y="15828"/>
                  <a:pt x="16056" y="15820"/>
                  <a:pt x="16123" y="15825"/>
                </a:cubicBezTo>
              </a:path>
              <a:path w="5309" h="1738">
                <a:moveTo>
                  <a:pt x="18529" y="15007"/>
                </a:moveTo>
                <a:lnTo>
                  <a:pt x="18529" y="15007"/>
                </a:lnTo>
              </a:path>
              <a:path w="5309" h="1738">
                <a:moveTo>
                  <a:pt x="18653" y="15329"/>
                </a:moveTo>
                <a:lnTo>
                  <a:pt x="18653" y="15329"/>
                </a:lnTo>
                <a:lnTo>
                  <a:pt x="18653" y="15329"/>
                </a:lnTo>
              </a:path>
              <a:path w="5309" h="1738">
                <a:moveTo>
                  <a:pt x="18653" y="15329"/>
                </a:moveTo>
                <a:lnTo>
                  <a:pt x="18653" y="15329"/>
                </a:lnTo>
              </a:path>
              <a:path w="5309" h="1738">
                <a:moveTo>
                  <a:pt x="19397" y="15726"/>
                </a:moveTo>
                <a:cubicBezTo>
                  <a:pt x="19544" y="15678"/>
                  <a:pt x="19592" y="15662"/>
                  <a:pt x="19695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1000" y="5249880"/>
            <a:ext cx="1251000" cy="706320"/>
          </a:xfrm>
          <a:custGeom>
            <a:avLst/>
            <a:gdLst/>
            <a:ahLst/>
            <a:rect l="l" t="t" r="r" b="b"/>
            <a:pathLst>
              <a:path w="3473" h="1961">
                <a:moveTo>
                  <a:pt x="12576" y="15602"/>
                </a:moveTo>
                <a:cubicBezTo>
                  <a:pt x="12621" y="15603"/>
                  <a:pt x="12597" y="15612"/>
                  <a:pt x="12601" y="15528"/>
                </a:cubicBezTo>
                <a:cubicBezTo>
                  <a:pt x="12605" y="15456"/>
                  <a:pt x="12656" y="15366"/>
                  <a:pt x="12700" y="15304"/>
                </a:cubicBezTo>
                <a:cubicBezTo>
                  <a:pt x="12765" y="15212"/>
                  <a:pt x="12899" y="15214"/>
                  <a:pt x="12998" y="15230"/>
                </a:cubicBezTo>
                <a:cubicBezTo>
                  <a:pt x="13110" y="15248"/>
                  <a:pt x="13201" y="15304"/>
                  <a:pt x="13271" y="15379"/>
                </a:cubicBezTo>
                <a:cubicBezTo>
                  <a:pt x="13322" y="15433"/>
                  <a:pt x="13360" y="15474"/>
                  <a:pt x="13345" y="15553"/>
                </a:cubicBezTo>
                <a:cubicBezTo>
                  <a:pt x="13332" y="15620"/>
                  <a:pt x="13197" y="15742"/>
                  <a:pt x="13146" y="15776"/>
                </a:cubicBezTo>
                <a:cubicBezTo>
                  <a:pt x="13020" y="15861"/>
                  <a:pt x="12860" y="15884"/>
                  <a:pt x="12750" y="15999"/>
                </a:cubicBezTo>
                <a:cubicBezTo>
                  <a:pt x="12674" y="16078"/>
                  <a:pt x="12629" y="16148"/>
                  <a:pt x="12576" y="16247"/>
                </a:cubicBezTo>
                <a:cubicBezTo>
                  <a:pt x="12524" y="16344"/>
                  <a:pt x="12503" y="16441"/>
                  <a:pt x="12477" y="16545"/>
                </a:cubicBezTo>
                <a:cubicBezTo>
                  <a:pt x="12477" y="16460"/>
                  <a:pt x="12467" y="16419"/>
                  <a:pt x="12526" y="16346"/>
                </a:cubicBezTo>
                <a:cubicBezTo>
                  <a:pt x="12571" y="16290"/>
                  <a:pt x="12628" y="16251"/>
                  <a:pt x="12700" y="16247"/>
                </a:cubicBezTo>
                <a:cubicBezTo>
                  <a:pt x="12760" y="16244"/>
                  <a:pt x="12817" y="16384"/>
                  <a:pt x="12849" y="16421"/>
                </a:cubicBezTo>
                <a:cubicBezTo>
                  <a:pt x="12894" y="16473"/>
                  <a:pt x="12942" y="16529"/>
                  <a:pt x="13022" y="16545"/>
                </a:cubicBezTo>
                <a:cubicBezTo>
                  <a:pt x="13105" y="16562"/>
                  <a:pt x="13187" y="16498"/>
                  <a:pt x="13246" y="16446"/>
                </a:cubicBezTo>
                <a:cubicBezTo>
                  <a:pt x="13271" y="16421"/>
                  <a:pt x="13279" y="16413"/>
                  <a:pt x="13295" y="16396"/>
                </a:cubicBezTo>
              </a:path>
              <a:path w="3473" h="1961">
                <a:moveTo>
                  <a:pt x="14412" y="14784"/>
                </a:moveTo>
                <a:cubicBezTo>
                  <a:pt x="14412" y="14729"/>
                  <a:pt x="14393" y="14950"/>
                  <a:pt x="14387" y="14982"/>
                </a:cubicBezTo>
                <a:cubicBezTo>
                  <a:pt x="14374" y="15048"/>
                  <a:pt x="14400" y="15044"/>
                  <a:pt x="14412" y="15007"/>
                </a:cubicBezTo>
              </a:path>
              <a:path w="3473" h="1961">
                <a:moveTo>
                  <a:pt x="14387" y="15081"/>
                </a:moveTo>
                <a:cubicBezTo>
                  <a:pt x="14379" y="15098"/>
                  <a:pt x="14370" y="15114"/>
                  <a:pt x="14362" y="15131"/>
                </a:cubicBezTo>
                <a:cubicBezTo>
                  <a:pt x="14434" y="15131"/>
                  <a:pt x="14491" y="15112"/>
                  <a:pt x="14560" y="15106"/>
                </a:cubicBezTo>
                <a:cubicBezTo>
                  <a:pt x="14568" y="15106"/>
                  <a:pt x="14577" y="15106"/>
                  <a:pt x="14585" y="15106"/>
                </a:cubicBezTo>
              </a:path>
              <a:path w="3473" h="1961">
                <a:moveTo>
                  <a:pt x="14610" y="14610"/>
                </a:moveTo>
                <a:cubicBezTo>
                  <a:pt x="14610" y="14571"/>
                  <a:pt x="14562" y="14946"/>
                  <a:pt x="14560" y="14982"/>
                </a:cubicBezTo>
                <a:cubicBezTo>
                  <a:pt x="14553" y="15088"/>
                  <a:pt x="14536" y="15199"/>
                  <a:pt x="14536" y="15304"/>
                </a:cubicBezTo>
                <a:cubicBezTo>
                  <a:pt x="14536" y="15312"/>
                  <a:pt x="14536" y="15321"/>
                  <a:pt x="14536" y="15329"/>
                </a:cubicBezTo>
              </a:path>
              <a:path w="3473" h="1961">
                <a:moveTo>
                  <a:pt x="13816" y="15627"/>
                </a:moveTo>
                <a:cubicBezTo>
                  <a:pt x="13965" y="15615"/>
                  <a:pt x="14113" y="15590"/>
                  <a:pt x="14263" y="15577"/>
                </a:cubicBezTo>
                <a:cubicBezTo>
                  <a:pt x="14651" y="15543"/>
                  <a:pt x="15040" y="15553"/>
                  <a:pt x="15429" y="15553"/>
                </a:cubicBezTo>
                <a:cubicBezTo>
                  <a:pt x="15462" y="15553"/>
                  <a:pt x="15495" y="15553"/>
                  <a:pt x="15528" y="15553"/>
                </a:cubicBezTo>
              </a:path>
              <a:path w="3473" h="1961">
                <a:moveTo>
                  <a:pt x="13891" y="16024"/>
                </a:moveTo>
                <a:cubicBezTo>
                  <a:pt x="13992" y="15998"/>
                  <a:pt x="13943" y="16104"/>
                  <a:pt x="13915" y="16247"/>
                </a:cubicBezTo>
                <a:cubicBezTo>
                  <a:pt x="13876" y="16405"/>
                  <a:pt x="13873" y="16431"/>
                  <a:pt x="13841" y="16520"/>
                </a:cubicBezTo>
              </a:path>
              <a:path w="3473" h="1961">
                <a:moveTo>
                  <a:pt x="14288" y="16049"/>
                </a:moveTo>
                <a:cubicBezTo>
                  <a:pt x="14161" y="16099"/>
                  <a:pt x="14043" y="16212"/>
                  <a:pt x="14039" y="16371"/>
                </a:cubicBezTo>
                <a:cubicBezTo>
                  <a:pt x="14033" y="16620"/>
                  <a:pt x="14356" y="16560"/>
                  <a:pt x="14461" y="16421"/>
                </a:cubicBezTo>
                <a:cubicBezTo>
                  <a:pt x="14604" y="16232"/>
                  <a:pt x="14439" y="16146"/>
                  <a:pt x="14288" y="16123"/>
                </a:cubicBezTo>
              </a:path>
              <a:path w="3473" h="1961">
                <a:moveTo>
                  <a:pt x="14734" y="15999"/>
                </a:moveTo>
                <a:cubicBezTo>
                  <a:pt x="14620" y="16155"/>
                  <a:pt x="14574" y="16279"/>
                  <a:pt x="14585" y="16470"/>
                </a:cubicBezTo>
                <a:cubicBezTo>
                  <a:pt x="14753" y="16491"/>
                  <a:pt x="14943" y="16451"/>
                  <a:pt x="14932" y="16222"/>
                </a:cubicBezTo>
                <a:cubicBezTo>
                  <a:pt x="14924" y="16067"/>
                  <a:pt x="14760" y="16104"/>
                  <a:pt x="14660" y="16098"/>
                </a:cubicBezTo>
              </a:path>
              <a:path w="3473" h="1961">
                <a:moveTo>
                  <a:pt x="14957" y="14957"/>
                </a:moveTo>
                <a:cubicBezTo>
                  <a:pt x="15025" y="14943"/>
                  <a:pt x="15084" y="14913"/>
                  <a:pt x="15156" y="14908"/>
                </a:cubicBezTo>
                <a:cubicBezTo>
                  <a:pt x="15164" y="14908"/>
                  <a:pt x="15172" y="14908"/>
                  <a:pt x="15180" y="14908"/>
                </a:cubicBezTo>
              </a:path>
              <a:path w="3473" h="1961">
                <a:moveTo>
                  <a:pt x="15131" y="16197"/>
                </a:moveTo>
                <a:cubicBezTo>
                  <a:pt x="15196" y="16150"/>
                  <a:pt x="15308" y="16182"/>
                  <a:pt x="15404" y="16197"/>
                </a:cubicBezTo>
                <a:cubicBezTo>
                  <a:pt x="15412" y="16197"/>
                  <a:pt x="15421" y="16197"/>
                  <a:pt x="15429" y="16197"/>
                </a:cubicBezTo>
              </a:path>
              <a:path w="3473" h="1961">
                <a:moveTo>
                  <a:pt x="15453" y="14709"/>
                </a:moveTo>
                <a:cubicBezTo>
                  <a:pt x="15490" y="14636"/>
                  <a:pt x="15571" y="14624"/>
                  <a:pt x="15652" y="14610"/>
                </a:cubicBezTo>
                <a:cubicBezTo>
                  <a:pt x="15652" y="14793"/>
                  <a:pt x="15592" y="14816"/>
                  <a:pt x="15503" y="14957"/>
                </a:cubicBezTo>
                <a:cubicBezTo>
                  <a:pt x="15478" y="14997"/>
                  <a:pt x="15744" y="14936"/>
                  <a:pt x="15776" y="14932"/>
                </a:cubicBezTo>
              </a:path>
              <a:path w="3473" h="1961">
                <a:moveTo>
                  <a:pt x="15652" y="16024"/>
                </a:moveTo>
                <a:cubicBezTo>
                  <a:pt x="15733" y="16024"/>
                  <a:pt x="15785" y="16016"/>
                  <a:pt x="15850" y="16049"/>
                </a:cubicBezTo>
                <a:cubicBezTo>
                  <a:pt x="15771" y="16199"/>
                  <a:pt x="15676" y="16297"/>
                  <a:pt x="15577" y="16421"/>
                </a:cubicBezTo>
                <a:cubicBezTo>
                  <a:pt x="15577" y="16429"/>
                  <a:pt x="15577" y="16438"/>
                  <a:pt x="15577" y="16446"/>
                </a:cubicBezTo>
                <a:cubicBezTo>
                  <a:pt x="15717" y="16446"/>
                  <a:pt x="15817" y="16430"/>
                  <a:pt x="15949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56200" y="5348160"/>
            <a:ext cx="1812960" cy="617760"/>
          </a:xfrm>
          <a:custGeom>
            <a:avLst/>
            <a:gdLst/>
            <a:ahLst/>
            <a:rect l="l" t="t" r="r" b="b"/>
            <a:pathLst>
              <a:path w="5036" h="1713">
                <a:moveTo>
                  <a:pt x="18033" y="15056"/>
                </a:moveTo>
                <a:cubicBezTo>
                  <a:pt x="18019" y="15017"/>
                  <a:pt x="17999" y="15032"/>
                  <a:pt x="18058" y="15032"/>
                </a:cubicBezTo>
                <a:cubicBezTo>
                  <a:pt x="18132" y="15032"/>
                  <a:pt x="18141" y="15032"/>
                  <a:pt x="18182" y="15032"/>
                </a:cubicBezTo>
                <a:cubicBezTo>
                  <a:pt x="18236" y="15234"/>
                  <a:pt x="18001" y="15345"/>
                  <a:pt x="17859" y="15503"/>
                </a:cubicBezTo>
                <a:cubicBezTo>
                  <a:pt x="17851" y="15520"/>
                  <a:pt x="17843" y="15536"/>
                  <a:pt x="17835" y="15553"/>
                </a:cubicBezTo>
                <a:cubicBezTo>
                  <a:pt x="17977" y="15553"/>
                  <a:pt x="18114" y="15532"/>
                  <a:pt x="18256" y="15528"/>
                </a:cubicBezTo>
                <a:cubicBezTo>
                  <a:pt x="18281" y="15528"/>
                  <a:pt x="18306" y="15528"/>
                  <a:pt x="18331" y="15528"/>
                </a:cubicBezTo>
              </a:path>
              <a:path w="5036" h="1713">
                <a:moveTo>
                  <a:pt x="17636" y="15751"/>
                </a:moveTo>
                <a:cubicBezTo>
                  <a:pt x="17943" y="15742"/>
                  <a:pt x="18247" y="15709"/>
                  <a:pt x="18554" y="15701"/>
                </a:cubicBezTo>
                <a:cubicBezTo>
                  <a:pt x="18562" y="15701"/>
                  <a:pt x="18571" y="15701"/>
                  <a:pt x="18579" y="15701"/>
                </a:cubicBezTo>
              </a:path>
              <a:path w="5036" h="1713">
                <a:moveTo>
                  <a:pt x="17934" y="16024"/>
                </a:moveTo>
                <a:cubicBezTo>
                  <a:pt x="17873" y="16024"/>
                  <a:pt x="17685" y="15989"/>
                  <a:pt x="17661" y="16049"/>
                </a:cubicBezTo>
                <a:cubicBezTo>
                  <a:pt x="17637" y="16112"/>
                  <a:pt x="17661" y="16229"/>
                  <a:pt x="17661" y="16297"/>
                </a:cubicBezTo>
                <a:cubicBezTo>
                  <a:pt x="17751" y="16284"/>
                  <a:pt x="17940" y="16216"/>
                  <a:pt x="18008" y="16321"/>
                </a:cubicBezTo>
                <a:cubicBezTo>
                  <a:pt x="18124" y="16499"/>
                  <a:pt x="17744" y="16574"/>
                  <a:pt x="17661" y="16570"/>
                </a:cubicBezTo>
                <a:cubicBezTo>
                  <a:pt x="17579" y="16549"/>
                  <a:pt x="17546" y="16558"/>
                  <a:pt x="17562" y="16495"/>
                </a:cubicBezTo>
              </a:path>
              <a:path w="5036" h="1713">
                <a:moveTo>
                  <a:pt x="18256" y="16073"/>
                </a:moveTo>
                <a:cubicBezTo>
                  <a:pt x="18167" y="16173"/>
                  <a:pt x="18046" y="16295"/>
                  <a:pt x="18083" y="16446"/>
                </a:cubicBezTo>
                <a:cubicBezTo>
                  <a:pt x="18099" y="16471"/>
                  <a:pt x="18116" y="16495"/>
                  <a:pt x="18132" y="16520"/>
                </a:cubicBezTo>
                <a:cubicBezTo>
                  <a:pt x="18271" y="16491"/>
                  <a:pt x="18465" y="16416"/>
                  <a:pt x="18405" y="16222"/>
                </a:cubicBezTo>
                <a:cubicBezTo>
                  <a:pt x="18374" y="16120"/>
                  <a:pt x="18290" y="16092"/>
                  <a:pt x="18207" y="16073"/>
                </a:cubicBezTo>
              </a:path>
              <a:path w="5036" h="1713">
                <a:moveTo>
                  <a:pt x="18479" y="15230"/>
                </a:moveTo>
                <a:cubicBezTo>
                  <a:pt x="18497" y="15203"/>
                  <a:pt x="18597" y="15151"/>
                  <a:pt x="18653" y="15131"/>
                </a:cubicBezTo>
                <a:cubicBezTo>
                  <a:pt x="18661" y="15131"/>
                  <a:pt x="18670" y="15131"/>
                  <a:pt x="18678" y="15131"/>
                </a:cubicBezTo>
              </a:path>
              <a:path w="5036" h="1713">
                <a:moveTo>
                  <a:pt x="18802" y="14908"/>
                </a:moveTo>
                <a:cubicBezTo>
                  <a:pt x="18852" y="14898"/>
                  <a:pt x="18901" y="14876"/>
                  <a:pt x="18951" y="14858"/>
                </a:cubicBezTo>
                <a:cubicBezTo>
                  <a:pt x="18951" y="14926"/>
                  <a:pt x="18995" y="14988"/>
                  <a:pt x="18976" y="15056"/>
                </a:cubicBezTo>
                <a:cubicBezTo>
                  <a:pt x="18958" y="15119"/>
                  <a:pt x="18811" y="15233"/>
                  <a:pt x="18876" y="15255"/>
                </a:cubicBezTo>
                <a:cubicBezTo>
                  <a:pt x="18972" y="15229"/>
                  <a:pt x="19055" y="15162"/>
                  <a:pt x="19149" y="15131"/>
                </a:cubicBezTo>
              </a:path>
              <a:path w="5036" h="1713">
                <a:moveTo>
                  <a:pt x="18951" y="16098"/>
                </a:moveTo>
                <a:cubicBezTo>
                  <a:pt x="18990" y="16113"/>
                  <a:pt x="19222" y="16110"/>
                  <a:pt x="19174" y="16222"/>
                </a:cubicBezTo>
                <a:cubicBezTo>
                  <a:pt x="19096" y="16326"/>
                  <a:pt x="19068" y="16363"/>
                  <a:pt x="19000" y="16421"/>
                </a:cubicBezTo>
                <a:cubicBezTo>
                  <a:pt x="19000" y="16429"/>
                  <a:pt x="19000" y="16438"/>
                  <a:pt x="19000" y="16446"/>
                </a:cubicBezTo>
                <a:cubicBezTo>
                  <a:pt x="19173" y="16470"/>
                  <a:pt x="19175" y="16459"/>
                  <a:pt x="19273" y="16321"/>
                </a:cubicBezTo>
              </a:path>
              <a:path w="5036" h="1713">
                <a:moveTo>
                  <a:pt x="19273" y="15652"/>
                </a:moveTo>
                <a:cubicBezTo>
                  <a:pt x="19355" y="15635"/>
                  <a:pt x="19414" y="15627"/>
                  <a:pt x="19496" y="15627"/>
                </a:cubicBezTo>
              </a:path>
              <a:path w="5036" h="1713">
                <a:moveTo>
                  <a:pt x="21034" y="14932"/>
                </a:moveTo>
                <a:cubicBezTo>
                  <a:pt x="21034" y="15106"/>
                  <a:pt x="21034" y="15279"/>
                  <a:pt x="21034" y="15453"/>
                </a:cubicBezTo>
              </a:path>
              <a:path w="5036" h="1713">
                <a:moveTo>
                  <a:pt x="20489" y="15726"/>
                </a:moveTo>
                <a:cubicBezTo>
                  <a:pt x="20727" y="15711"/>
                  <a:pt x="20971" y="15687"/>
                  <a:pt x="21208" y="15652"/>
                </a:cubicBezTo>
                <a:cubicBezTo>
                  <a:pt x="21297" y="15639"/>
                  <a:pt x="21337" y="15593"/>
                  <a:pt x="21357" y="15652"/>
                </a:cubicBezTo>
              </a:path>
              <a:path w="5036" h="1713">
                <a:moveTo>
                  <a:pt x="20811" y="15999"/>
                </a:moveTo>
                <a:cubicBezTo>
                  <a:pt x="20903" y="15999"/>
                  <a:pt x="20997" y="15999"/>
                  <a:pt x="21010" y="16123"/>
                </a:cubicBezTo>
                <a:cubicBezTo>
                  <a:pt x="21031" y="16324"/>
                  <a:pt x="20873" y="16446"/>
                  <a:pt x="20687" y="16446"/>
                </a:cubicBezTo>
                <a:cubicBezTo>
                  <a:pt x="20654" y="16438"/>
                  <a:pt x="20621" y="16429"/>
                  <a:pt x="20588" y="16421"/>
                </a:cubicBezTo>
                <a:cubicBezTo>
                  <a:pt x="20692" y="16328"/>
                  <a:pt x="20746" y="16297"/>
                  <a:pt x="20886" y="16346"/>
                </a:cubicBezTo>
                <a:cubicBezTo>
                  <a:pt x="21021" y="16393"/>
                  <a:pt x="20925" y="16443"/>
                  <a:pt x="21084" y="16297"/>
                </a:cubicBezTo>
              </a:path>
              <a:path w="5036" h="1713">
                <a:moveTo>
                  <a:pt x="21233" y="15974"/>
                </a:moveTo>
                <a:cubicBezTo>
                  <a:pt x="21192" y="16035"/>
                  <a:pt x="21170" y="16099"/>
                  <a:pt x="21158" y="16173"/>
                </a:cubicBezTo>
                <a:cubicBezTo>
                  <a:pt x="21230" y="16173"/>
                  <a:pt x="21289" y="16169"/>
                  <a:pt x="21357" y="16197"/>
                </a:cubicBezTo>
                <a:cubicBezTo>
                  <a:pt x="21406" y="16222"/>
                  <a:pt x="21423" y="16231"/>
                  <a:pt x="21431" y="16272"/>
                </a:cubicBezTo>
                <a:cubicBezTo>
                  <a:pt x="21394" y="16314"/>
                  <a:pt x="21281" y="16413"/>
                  <a:pt x="21208" y="16371"/>
                </a:cubicBezTo>
                <a:cubicBezTo>
                  <a:pt x="21155" y="16340"/>
                  <a:pt x="21236" y="16254"/>
                  <a:pt x="21258" y="16197"/>
                </a:cubicBezTo>
              </a:path>
              <a:path w="5036" h="1713">
                <a:moveTo>
                  <a:pt x="21258" y="15974"/>
                </a:moveTo>
                <a:cubicBezTo>
                  <a:pt x="21258" y="15966"/>
                  <a:pt x="21258" y="15957"/>
                  <a:pt x="21258" y="15949"/>
                </a:cubicBezTo>
                <a:cubicBezTo>
                  <a:pt x="21350" y="15973"/>
                  <a:pt x="21422" y="15995"/>
                  <a:pt x="21530" y="15999"/>
                </a:cubicBezTo>
                <a:cubicBezTo>
                  <a:pt x="21572" y="15999"/>
                  <a:pt x="21588" y="15991"/>
                  <a:pt x="21580" y="16024"/>
                </a:cubicBezTo>
              </a:path>
              <a:path w="5036" h="1713">
                <a:moveTo>
                  <a:pt x="21233" y="16446"/>
                </a:moveTo>
                <a:cubicBezTo>
                  <a:pt x="21180" y="16446"/>
                  <a:pt x="21284" y="16431"/>
                  <a:pt x="21307" y="16421"/>
                </a:cubicBezTo>
                <a:cubicBezTo>
                  <a:pt x="21223" y="16407"/>
                  <a:pt x="21139" y="16387"/>
                  <a:pt x="21059" y="16371"/>
                </a:cubicBezTo>
                <a:cubicBezTo>
                  <a:pt x="21051" y="16371"/>
                  <a:pt x="21042" y="16371"/>
                  <a:pt x="21034" y="16371"/>
                </a:cubicBezTo>
                <a:cubicBezTo>
                  <a:pt x="21123" y="16386"/>
                  <a:pt x="21166" y="16379"/>
                  <a:pt x="21258" y="16371"/>
                </a:cubicBezTo>
                <a:cubicBezTo>
                  <a:pt x="21266" y="16371"/>
                  <a:pt x="21274" y="16371"/>
                  <a:pt x="21282" y="16371"/>
                </a:cubicBezTo>
              </a:path>
              <a:path w="5036" h="1713">
                <a:moveTo>
                  <a:pt x="16694" y="15528"/>
                </a:moveTo>
                <a:cubicBezTo>
                  <a:pt x="16682" y="15507"/>
                  <a:pt x="16635" y="15461"/>
                  <a:pt x="16644" y="15404"/>
                </a:cubicBezTo>
                <a:cubicBezTo>
                  <a:pt x="16658" y="15323"/>
                  <a:pt x="16704" y="15293"/>
                  <a:pt x="16768" y="15255"/>
                </a:cubicBezTo>
                <a:cubicBezTo>
                  <a:pt x="16832" y="15217"/>
                  <a:pt x="16890" y="15191"/>
                  <a:pt x="16966" y="15205"/>
                </a:cubicBezTo>
                <a:cubicBezTo>
                  <a:pt x="17068" y="15224"/>
                  <a:pt x="17091" y="15288"/>
                  <a:pt x="17140" y="15354"/>
                </a:cubicBezTo>
                <a:cubicBezTo>
                  <a:pt x="17200" y="15433"/>
                  <a:pt x="17207" y="15484"/>
                  <a:pt x="17165" y="15577"/>
                </a:cubicBezTo>
                <a:cubicBezTo>
                  <a:pt x="17123" y="15671"/>
                  <a:pt x="17095" y="15672"/>
                  <a:pt x="17016" y="15726"/>
                </a:cubicBezTo>
                <a:cubicBezTo>
                  <a:pt x="16951" y="15771"/>
                  <a:pt x="16885" y="15838"/>
                  <a:pt x="16842" y="15900"/>
                </a:cubicBezTo>
                <a:cubicBezTo>
                  <a:pt x="16786" y="15981"/>
                  <a:pt x="16758" y="16074"/>
                  <a:pt x="16694" y="16148"/>
                </a:cubicBezTo>
                <a:cubicBezTo>
                  <a:pt x="16642" y="16208"/>
                  <a:pt x="16639" y="16251"/>
                  <a:pt x="16594" y="16321"/>
                </a:cubicBezTo>
                <a:cubicBezTo>
                  <a:pt x="16554" y="16384"/>
                  <a:pt x="16555" y="16425"/>
                  <a:pt x="16545" y="16495"/>
                </a:cubicBezTo>
                <a:cubicBezTo>
                  <a:pt x="16545" y="16487"/>
                  <a:pt x="16545" y="16478"/>
                  <a:pt x="16545" y="16470"/>
                </a:cubicBezTo>
                <a:cubicBezTo>
                  <a:pt x="16577" y="16386"/>
                  <a:pt x="16593" y="16348"/>
                  <a:pt x="16644" y="16272"/>
                </a:cubicBezTo>
                <a:cubicBezTo>
                  <a:pt x="16691" y="16202"/>
                  <a:pt x="16741" y="16198"/>
                  <a:pt x="16818" y="16173"/>
                </a:cubicBezTo>
                <a:cubicBezTo>
                  <a:pt x="16837" y="16197"/>
                  <a:pt x="16835" y="16215"/>
                  <a:pt x="16867" y="16247"/>
                </a:cubicBezTo>
                <a:cubicBezTo>
                  <a:pt x="16909" y="16289"/>
                  <a:pt x="16947" y="16322"/>
                  <a:pt x="16991" y="16346"/>
                </a:cubicBezTo>
                <a:cubicBezTo>
                  <a:pt x="17068" y="16389"/>
                  <a:pt x="17162" y="16330"/>
                  <a:pt x="17239" y="16297"/>
                </a:cubicBezTo>
                <a:cubicBezTo>
                  <a:pt x="17280" y="16277"/>
                  <a:pt x="17286" y="16268"/>
                  <a:pt x="17314" y="16272"/>
                </a:cubicBezTo>
              </a:path>
              <a:path w="5036" h="1713">
                <a:moveTo>
                  <a:pt x="19943" y="15304"/>
                </a:moveTo>
                <a:cubicBezTo>
                  <a:pt x="19935" y="15321"/>
                  <a:pt x="19926" y="15337"/>
                  <a:pt x="19918" y="15354"/>
                </a:cubicBezTo>
                <a:cubicBezTo>
                  <a:pt x="19918" y="15305"/>
                  <a:pt x="19904" y="15244"/>
                  <a:pt x="19943" y="15205"/>
                </a:cubicBezTo>
                <a:cubicBezTo>
                  <a:pt x="20010" y="15138"/>
                  <a:pt x="20079" y="15113"/>
                  <a:pt x="20166" y="15106"/>
                </a:cubicBezTo>
                <a:cubicBezTo>
                  <a:pt x="20261" y="15098"/>
                  <a:pt x="20294" y="15147"/>
                  <a:pt x="20340" y="15230"/>
                </a:cubicBezTo>
                <a:cubicBezTo>
                  <a:pt x="20374" y="15292"/>
                  <a:pt x="20418" y="15370"/>
                  <a:pt x="20365" y="15429"/>
                </a:cubicBezTo>
                <a:cubicBezTo>
                  <a:pt x="20314" y="15485"/>
                  <a:pt x="20235" y="15547"/>
                  <a:pt x="20166" y="15602"/>
                </a:cubicBezTo>
                <a:cubicBezTo>
                  <a:pt x="20103" y="15653"/>
                  <a:pt x="20081" y="15759"/>
                  <a:pt x="20042" y="15801"/>
                </a:cubicBezTo>
                <a:cubicBezTo>
                  <a:pt x="19991" y="15857"/>
                  <a:pt x="19950" y="15893"/>
                  <a:pt x="19918" y="15974"/>
                </a:cubicBezTo>
                <a:cubicBezTo>
                  <a:pt x="19901" y="16017"/>
                  <a:pt x="19854" y="16097"/>
                  <a:pt x="19869" y="16148"/>
                </a:cubicBezTo>
                <a:cubicBezTo>
                  <a:pt x="19879" y="16183"/>
                  <a:pt x="19877" y="16164"/>
                  <a:pt x="19893" y="16197"/>
                </a:cubicBezTo>
                <a:cubicBezTo>
                  <a:pt x="19893" y="16133"/>
                  <a:pt x="19875" y="16089"/>
                  <a:pt x="19943" y="16073"/>
                </a:cubicBezTo>
                <a:cubicBezTo>
                  <a:pt x="19995" y="16060"/>
                  <a:pt x="20072" y="16078"/>
                  <a:pt x="20117" y="16098"/>
                </a:cubicBezTo>
                <a:cubicBezTo>
                  <a:pt x="20146" y="16111"/>
                  <a:pt x="20144" y="16132"/>
                  <a:pt x="20191" y="16123"/>
                </a:cubicBezTo>
                <a:cubicBezTo>
                  <a:pt x="20243" y="16113"/>
                  <a:pt x="20314" y="16112"/>
                  <a:pt x="20365" y="16098"/>
                </a:cubicBezTo>
                <a:cubicBezTo>
                  <a:pt x="20430" y="16080"/>
                  <a:pt x="20440" y="16064"/>
                  <a:pt x="20464" y="16073"/>
                </a:cubicBezTo>
                <a:cubicBezTo>
                  <a:pt x="20504" y="16087"/>
                  <a:pt x="20483" y="16079"/>
                  <a:pt x="20489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70800" y="5769000"/>
            <a:ext cx="81000" cy="160200"/>
          </a:xfrm>
          <a:custGeom>
            <a:avLst/>
            <a:gdLst/>
            <a:ahLst/>
            <a:rect l="l" t="t" r="r" b="b"/>
            <a:pathLst>
              <a:path w="224" h="447">
                <a:moveTo>
                  <a:pt x="18529" y="16197"/>
                </a:moveTo>
                <a:cubicBezTo>
                  <a:pt x="18597" y="16227"/>
                  <a:pt x="18684" y="16274"/>
                  <a:pt x="18752" y="16297"/>
                </a:cubicBezTo>
              </a:path>
              <a:path w="224" h="447">
                <a:moveTo>
                  <a:pt x="18703" y="16024"/>
                </a:moveTo>
                <a:cubicBezTo>
                  <a:pt x="18695" y="16049"/>
                  <a:pt x="18686" y="16073"/>
                  <a:pt x="18678" y="16098"/>
                </a:cubicBezTo>
              </a:path>
              <a:path w="224" h="447">
                <a:moveTo>
                  <a:pt x="18678" y="16098"/>
                </a:moveTo>
                <a:lnTo>
                  <a:pt x="18678" y="16098"/>
                </a:lnTo>
              </a:path>
              <a:path w="224" h="447">
                <a:moveTo>
                  <a:pt x="18554" y="16446"/>
                </a:moveTo>
                <a:cubicBezTo>
                  <a:pt x="18554" y="16454"/>
                  <a:pt x="18554" y="16462"/>
                  <a:pt x="18554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convert decimals to fractions and per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practic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14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HOMEWORK:  Cowboys and Ea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Fractions/Decimals/% Homework Worksh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# 2, 3, 4, 5, 7 only – just writing the missing fraction or dec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(We didn’t get to the % today, so we will work on this tomorrow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cp:lastPrinted>2009-09-29T02:37:49Z</cp:lastPrinted>
  <dcterms:modified xsi:type="dcterms:W3CDTF">2011-10-06T19:19:28Z</dcterms:modified>
  <cp:revision>58</cp:revision>
  <dc:subject/>
  <dc:title>Unit 1 – Variables and Equations </dc:title>
</cp:coreProperties>
</file>